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818B-C1F5-4A92-A53D-BD70CCA40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C0F6-1097-4228-A384-4547D30D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B745-CECB-4620-98C0-4F2D78D7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0240-D84D-4110-ABA0-F4B6063DE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6C67-79CB-42B0-B810-2D542C7D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519B-0175-48FD-884B-8E559F30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64B9-648F-448C-B733-667DE3E5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22C3-2148-4ABD-A067-735A3EA5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9F17-0004-4EAE-A577-1B9B8869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F4A6-44A5-42C1-9F4A-92120F24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804E-DB52-4DF2-B3E3-BC93082B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130D-038D-413D-A269-E2DB0E7A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88C5-30B4-4B50-AE93-6FF0476F9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905120"/>
            <a:ext cx="196560" cy="164880"/>
          </a:xfrm>
          <a:prstGeom prst="rightArrow">
            <a:avLst>
              <a:gd name="adj1" fmla="val 56250"/>
              <a:gd name="adj2" fmla="val 6954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19440" y="191448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e3e7e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8080" y="190512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088080" y="1784520"/>
            <a:ext cx="326160" cy="398520"/>
            <a:chOff x="3088080" y="1784520"/>
            <a:chExt cx="326160" cy="398520"/>
          </a:xfrm>
        </p:grpSpPr>
        <p:sp>
          <p:nvSpPr>
            <p:cNvPr id="46" name=""/>
            <p:cNvSpPr/>
            <p:nvPr/>
          </p:nvSpPr>
          <p:spPr>
            <a:xfrm>
              <a:off x="3102480" y="1784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88080" y="18147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9051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b7fd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209680"/>
            <a:ext cx="173160" cy="146160"/>
          </a:xfrm>
          <a:prstGeom prst="rightArrow">
            <a:avLst>
              <a:gd name="adj1" fmla="val 64583"/>
              <a:gd name="adj2" fmla="val 64172"/>
            </a:avLst>
          </a:prstGeom>
          <a:solidFill>
            <a:srgbClr val="ffe38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21:40:42Z</dcterms:created>
  <dc:creator>Shawn Bowers</dc:creator>
  <dc:description/>
  <dc:language>en-US</dc:language>
  <cp:lastModifiedBy>Shawn Bowers</cp:lastModifiedBy>
  <dcterms:modified xsi:type="dcterms:W3CDTF">2006-05-22T17:52:40Z</dcterms:modified>
  <cp:revision>22</cp:revision>
  <dc:subject/>
  <dc:title>PowerPoint Presentation</dc:title>
</cp:coreProperties>
</file>