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2BB0-5DF5-48D2-954D-B66DF532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6086-5DF7-4653-9E5F-9E282700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59A8-9D19-478D-8856-062AD8570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3BDE-3302-4BAA-BCC9-A7A1C7B53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2624-AE35-45EF-93FE-5FE4208B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7DA4-E2C6-4359-A88E-9C29AACE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0473-3A65-4D63-92FC-A18FA86F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457C-A324-482D-AE90-35868547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B813-992D-40F1-AC13-B8316D36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0DBC-A60F-4AD4-928C-DE571E17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BA37-B797-40B6-9BB0-9558A1B6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DCE2-70A6-46F5-AC4B-99E4EB1C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70AD-D8EE-43A3-8154-ABAF651A6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905120"/>
            <a:ext cx="196560" cy="164880"/>
          </a:xfrm>
          <a:prstGeom prst="rightArrow">
            <a:avLst>
              <a:gd name="adj1" fmla="val 56250"/>
              <a:gd name="adj2" fmla="val 6954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19440" y="191448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e3e7e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8080" y="190512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088080" y="1784520"/>
            <a:ext cx="326160" cy="398520"/>
            <a:chOff x="3088080" y="1784520"/>
            <a:chExt cx="326160" cy="398520"/>
          </a:xfrm>
        </p:grpSpPr>
        <p:sp>
          <p:nvSpPr>
            <p:cNvPr id="46" name=""/>
            <p:cNvSpPr/>
            <p:nvPr/>
          </p:nvSpPr>
          <p:spPr>
            <a:xfrm>
              <a:off x="3102480" y="1784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88080" y="18147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9051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b7fd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2209680"/>
            <a:ext cx="173160" cy="146160"/>
          </a:xfrm>
          <a:prstGeom prst="rightArrow">
            <a:avLst>
              <a:gd name="adj1" fmla="val 64583"/>
              <a:gd name="adj2" fmla="val 64172"/>
            </a:avLst>
          </a:prstGeom>
          <a:solidFill>
            <a:srgbClr val="ffe38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21:40:42Z</dcterms:created>
  <dc:creator>Shawn Bowers</dc:creator>
  <dc:description/>
  <dc:language>en-US</dc:language>
  <cp:lastModifiedBy>Shawn Bowers</cp:lastModifiedBy>
  <dcterms:modified xsi:type="dcterms:W3CDTF">2006-05-22T17:52:40Z</dcterms:modified>
  <cp:revision>22</cp:revision>
  <dc:subject/>
  <dc:title>PowerPoint Presentation</dc:title>
</cp:coreProperties>
</file>