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0DBE-8474-4096-A4B3-63C6CA384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609C-9AA3-4225-9EE8-EB0AA1EC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E878-67E5-43D4-9A1A-23FCA8B37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96B7-2562-4121-BA4B-F59A1969C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FF8C-0168-4584-9262-956CE84D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A119-057D-48ED-A9B0-C2052F89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9F6E-1F00-4A7B-88C6-9AD93055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099F-ABF0-4D09-9C58-61D23198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1F30-1A36-4284-872A-2C0DBA90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E2EB-6DC2-4435-8AB0-5FF51A24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5DFC-9A57-4841-B9CE-575B27A0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7E69-0C9A-42C2-B0D2-4BD84077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A58F-CC5A-4A19-AE36-582B8FDFF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1905120"/>
            <a:ext cx="196560" cy="164880"/>
          </a:xfrm>
          <a:prstGeom prst="rightArrow">
            <a:avLst>
              <a:gd name="adj1" fmla="val 56250"/>
              <a:gd name="adj2" fmla="val 6954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19440" y="191448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e3e7e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8080" y="190512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088080" y="1784520"/>
            <a:ext cx="326160" cy="398520"/>
            <a:chOff x="3088080" y="1784520"/>
            <a:chExt cx="326160" cy="398520"/>
          </a:xfrm>
        </p:grpSpPr>
        <p:sp>
          <p:nvSpPr>
            <p:cNvPr id="46" name=""/>
            <p:cNvSpPr/>
            <p:nvPr/>
          </p:nvSpPr>
          <p:spPr>
            <a:xfrm>
              <a:off x="3102480" y="1784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88080" y="18147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9051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b7fd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2209680"/>
            <a:ext cx="173160" cy="146160"/>
          </a:xfrm>
          <a:prstGeom prst="rightArrow">
            <a:avLst>
              <a:gd name="adj1" fmla="val 64583"/>
              <a:gd name="adj2" fmla="val 64172"/>
            </a:avLst>
          </a:prstGeom>
          <a:solidFill>
            <a:srgbClr val="ffe38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21:40:42Z</dcterms:created>
  <dc:creator>Shawn Bowers</dc:creator>
  <dc:description/>
  <dc:language>en-US</dc:language>
  <cp:lastModifiedBy>Shawn Bowers</cp:lastModifiedBy>
  <dcterms:modified xsi:type="dcterms:W3CDTF">2006-05-22T17:52:40Z</dcterms:modified>
  <cp:revision>22</cp:revision>
  <dc:subject/>
  <dc:title>PowerPoint Presentation</dc:title>
</cp:coreProperties>
</file>