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1A04D-CF29-4C23-8E58-33AF078000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4DFE7-E7FF-46AF-8CE7-B4BF50B33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D69A-7B9F-4F73-8B8E-D2458343D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5FD1-F3FF-4FFD-BA2C-2B6F7B9DD6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10B95-75C8-4D19-BF0A-0D449B862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8D114-6688-40A4-B28E-02AF7F7A2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AF7B9-9CE0-4262-BB5A-0182BB3E6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028A8-6D88-42C9-9158-635FE518B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1B03D-0D38-4BC6-91F7-C43458934C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E8E8-8201-4FEA-ADFE-81FC20EF2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F39C2-4AB7-4663-9D47-703A35D34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D40B0-A9D5-4495-BB7C-FD4DB5832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1DD10-0CC6-4069-B6AE-881E134A60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7920" y="1905120"/>
            <a:ext cx="196560" cy="164880"/>
          </a:xfrm>
          <a:prstGeom prst="rightArrow">
            <a:avLst>
              <a:gd name="adj1" fmla="val 56250"/>
              <a:gd name="adj2" fmla="val 69541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719440" y="191448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479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e3e7ec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78080" y="1905120"/>
            <a:ext cx="174600" cy="174600"/>
          </a:xfrm>
          <a:prstGeom prst="ellipse">
            <a:avLst/>
          </a:prstGeom>
          <a:solidFill>
            <a:srgbClr val="7287b4"/>
          </a:solidFill>
          <a:ln w="9360">
            <a:solidFill>
              <a:srgbClr val="7287b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" name=""/>
          <p:cNvGrpSpPr/>
          <p:nvPr/>
        </p:nvGrpSpPr>
        <p:grpSpPr>
          <a:xfrm>
            <a:off x="3088080" y="1784520"/>
            <a:ext cx="326160" cy="398520"/>
            <a:chOff x="3088080" y="1784520"/>
            <a:chExt cx="326160" cy="398520"/>
          </a:xfrm>
        </p:grpSpPr>
        <p:sp>
          <p:nvSpPr>
            <p:cNvPr id="46" name=""/>
            <p:cNvSpPr/>
            <p:nvPr/>
          </p:nvSpPr>
          <p:spPr>
            <a:xfrm>
              <a:off x="3102480" y="178452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088080" y="181476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Lucida Calligraphy"/>
                </a:rPr>
                <a:t>~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" name=""/>
          <p:cNvSpPr/>
          <p:nvPr/>
        </p:nvSpPr>
        <p:spPr>
          <a:xfrm>
            <a:off x="1905120" y="2209680"/>
            <a:ext cx="172800" cy="146160"/>
          </a:xfrm>
          <a:prstGeom prst="rightArrow">
            <a:avLst>
              <a:gd name="adj1" fmla="val 64583"/>
              <a:gd name="adj2" fmla="val 64039"/>
            </a:avLst>
          </a:prstGeom>
          <a:solidFill>
            <a:srgbClr val="b7fdff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2209680"/>
            <a:ext cx="173160" cy="146160"/>
          </a:xfrm>
          <a:prstGeom prst="rightArrow">
            <a:avLst>
              <a:gd name="adj1" fmla="val 64583"/>
              <a:gd name="adj2" fmla="val 64172"/>
            </a:avLst>
          </a:prstGeom>
          <a:solidFill>
            <a:srgbClr val="ffe38a"/>
          </a:solidFill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3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0T21:40:42Z</dcterms:created>
  <dc:creator>Shawn Bowers</dc:creator>
  <dc:description/>
  <dc:language>en-US</dc:language>
  <cp:lastModifiedBy>Shawn Bowers</cp:lastModifiedBy>
  <dcterms:modified xsi:type="dcterms:W3CDTF">2006-05-22T17:52:40Z</dcterms:modified>
  <cp:revision>22</cp:revision>
  <dc:subject/>
  <dc:title>PowerPoint Presentation</dc:title>
</cp:coreProperties>
</file>