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D720-36EA-4217-A6EA-F101B599B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14D0-4FFA-48EC-8A2B-A68738B56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B8B3-7EF1-4F02-843B-52D962DD1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38E1-CC78-4CD5-9762-7D476F865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03FD-07CF-438C-8DD3-A01650128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C868-FB23-44DB-8F0D-569179B45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ED85-D817-46AE-B823-2508E4552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F38C-82F3-4373-9043-64834FC38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C579-0839-4E7D-A391-A8375402D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F271-F868-4A35-BB88-C2DF45AAA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562D-6C99-44ED-8A4C-0CCEF4BC3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6098-0126-43C1-9880-952A99CC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B1FAB-0175-4EC2-9EC4-F4CAA4A6F9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7920" y="1905120"/>
            <a:ext cx="196560" cy="164880"/>
          </a:xfrm>
          <a:prstGeom prst="rightArrow">
            <a:avLst>
              <a:gd name="adj1" fmla="val 56250"/>
              <a:gd name="adj2" fmla="val 6954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19440" y="1914480"/>
            <a:ext cx="174600" cy="174600"/>
          </a:xfrm>
          <a:prstGeom prst="ellipse">
            <a:avLst/>
          </a:prstGeom>
          <a:solidFill>
            <a:srgbClr val="7287b4"/>
          </a:solidFill>
          <a:ln w="9360">
            <a:solidFill>
              <a:srgbClr val="7287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2209680"/>
            <a:ext cx="172800" cy="146160"/>
          </a:xfrm>
          <a:prstGeom prst="rightArrow">
            <a:avLst>
              <a:gd name="adj1" fmla="val 64583"/>
              <a:gd name="adj2" fmla="val 64039"/>
            </a:avLst>
          </a:prstGeom>
          <a:solidFill>
            <a:srgbClr val="e3e7e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8080" y="1905120"/>
            <a:ext cx="174600" cy="174600"/>
          </a:xfrm>
          <a:prstGeom prst="ellipse">
            <a:avLst/>
          </a:prstGeom>
          <a:solidFill>
            <a:srgbClr val="7287b4"/>
          </a:solidFill>
          <a:ln w="9360">
            <a:solidFill>
              <a:srgbClr val="7287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088080" y="1784520"/>
            <a:ext cx="326160" cy="398520"/>
            <a:chOff x="3088080" y="1784520"/>
            <a:chExt cx="326160" cy="398520"/>
          </a:xfrm>
        </p:grpSpPr>
        <p:sp>
          <p:nvSpPr>
            <p:cNvPr id="46" name=""/>
            <p:cNvSpPr/>
            <p:nvPr/>
          </p:nvSpPr>
          <p:spPr>
            <a:xfrm>
              <a:off x="3102480" y="1784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alligraphy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088080" y="18147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alligraphy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1905120" y="2209680"/>
            <a:ext cx="172800" cy="146160"/>
          </a:xfrm>
          <a:prstGeom prst="rightArrow">
            <a:avLst>
              <a:gd name="adj1" fmla="val 64583"/>
              <a:gd name="adj2" fmla="val 64039"/>
            </a:avLst>
          </a:prstGeom>
          <a:solidFill>
            <a:srgbClr val="b7fd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2209680"/>
            <a:ext cx="173160" cy="146160"/>
          </a:xfrm>
          <a:prstGeom prst="rightArrow">
            <a:avLst>
              <a:gd name="adj1" fmla="val 64583"/>
              <a:gd name="adj2" fmla="val 64172"/>
            </a:avLst>
          </a:prstGeom>
          <a:solidFill>
            <a:srgbClr val="ffe38a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0T21:40:42Z</dcterms:created>
  <dc:creator>Shawn Bowers</dc:creator>
  <dc:description/>
  <dc:language>en-US</dc:language>
  <cp:lastModifiedBy>Shawn Bowers</cp:lastModifiedBy>
  <dcterms:modified xsi:type="dcterms:W3CDTF">2006-05-22T17:52:40Z</dcterms:modified>
  <cp:revision>22</cp:revision>
  <dc:subject/>
  <dc:title>PowerPoint Presentation</dc:title>
</cp:coreProperties>
</file>