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8535988" cy="6173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6188-1AF4-4E3B-9056-E0F021E317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93B3-6B2A-49FA-B07D-B94758E1F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8214-35E7-407E-A044-ABDC8D640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47977-8087-4D8C-9BAE-7A69D9164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C5E9-3FF5-47F3-8207-F0147A3926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67DF-3054-485E-BE6B-A83481E27C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ECC9-DE89-42AE-BEE5-785CA13895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F208-B48E-4F80-AA2B-26731DAB80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A209-9025-4D42-9E00-D5CA03076F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178E5-7BCF-47F5-B1A7-B59F05B97C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2EC4-C070-4213-A0B7-0F362F02BA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C7D7-D440-4C94-BB61-E42785B0F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68D4-A124-4658-9653-9A31D17115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2DAF3-767E-4084-B70B-B08EFFD4C6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6306-30E2-4509-BDA7-E6EA22EA38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F328-0681-4438-8262-157A86E8F4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12BD1-6309-4535-8233-457D981B14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53F-BEBB-4F81-A654-5B8DEFDEA9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BF0-71F3-4BE0-8767-F63EDE9977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85C-BB96-408A-BFB5-99212A840D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1EC-F569-4055-9F3A-61BC7C91E1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D7F-9FC8-46BB-A9F3-AE8F574F6D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CE1D-59E8-433E-B410-7007A611A0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C25-C1D4-4A87-B5E9-847BC95252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51B-B200-4EA2-8C9C-BF85CAD444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B71-4128-4D5D-8FEA-8195DA34F0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F7F-8411-40F5-9270-14A0D3BE67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EAD6-3407-492B-BC27-DF76452F4F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44F-7AEF-4716-A886-3CE8FC7472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067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479920" y="106668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335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0067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479920" y="3057120"/>
            <a:ext cx="23551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8A6-CDAA-49B7-B05F-26FB1D676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2DD8-9F5D-4C83-9C1C-F101EE9B1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3FC2A-E5E6-485D-AC22-5D3728A46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7315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7A86-5CDF-4E59-B81E-EA74D1B5D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3694-009E-461F-AD2B-59F470CA6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82200" y="305712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EF573-1307-4C12-8C18-7FF1B7C4E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2200" y="1066680"/>
            <a:ext cx="35697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057120"/>
            <a:ext cx="73152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45B9-0B28-4575-86D9-A4EC6B991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3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ABC0-23DF-4E44-B46E-4D3AEAB8294F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45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47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E38-50CA-45A1-9AA1-36DDBFEF737F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3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89" name="Picture 10" descr="PPTFootCol.PNG"/>
          <p:cNvPicPr/>
          <p:nvPr/>
        </p:nvPicPr>
        <p:blipFill>
          <a:blip r:embed="rId2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OCOL.png"/>
          <p:cNvPicPr/>
          <p:nvPr/>
        </p:nvPicPr>
        <p:blipFill>
          <a:blip r:embed="rId3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93" name="Picture 11" descr="PPTFootCol.PNG"/>
          <p:cNvPicPr/>
          <p:nvPr/>
        </p:nvPicPr>
        <p:blipFill>
          <a:blip r:embed="rId4"/>
          <a:stretch/>
        </p:blipFill>
        <p:spPr>
          <a:xfrm>
            <a:off x="0" y="5562720"/>
            <a:ext cx="853452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BOCOL.png"/>
          <p:cNvPicPr/>
          <p:nvPr/>
        </p:nvPicPr>
        <p:blipFill>
          <a:blip r:embed="rId5"/>
          <a:stretch/>
        </p:blipFill>
        <p:spPr>
          <a:xfrm>
            <a:off x="6477120" y="5651640"/>
            <a:ext cx="1828800" cy="406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0" y="0"/>
            <a:ext cx="8534520" cy="533520"/>
          </a:xfrm>
          <a:prstGeom prst="rect">
            <a:avLst/>
          </a:prstGeom>
          <a:solidFill>
            <a:srgbClr val="153b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6" name="Straight Connector 14"/>
          <p:cNvSpPr/>
          <p:nvPr/>
        </p:nvSpPr>
        <p:spPr>
          <a:xfrm>
            <a:off x="0" y="533520"/>
            <a:ext cx="8534520" cy="0"/>
          </a:xfrm>
          <a:prstGeom prst="line">
            <a:avLst/>
          </a:prstGeom>
          <a:ln w="9000">
            <a:solidFill>
              <a:srgbClr val="153b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7" name="Straight Connector 15"/>
          <p:cNvSpPr/>
          <p:nvPr/>
        </p:nvSpPr>
        <p:spPr>
          <a:xfrm>
            <a:off x="0" y="5562720"/>
            <a:ext cx="8534520" cy="0"/>
          </a:xfrm>
          <a:prstGeom prst="line">
            <a:avLst/>
          </a:prstGeom>
          <a:ln w="9000">
            <a:solidFill>
              <a:srgbClr val="ddd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sch Office Sans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33520" y="10666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/>
          </a:bodyPr>
          <a:p>
            <a:pPr marL="304920" indent="-30492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6094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2" marL="91440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3" marL="121932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4" marL="1523880" indent="-19044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5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  <a:p>
            <a:pPr lvl="6" marL="1523880" indent="-190440">
              <a:lnSpc>
                <a:spcPct val="111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sch Office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6320" y="5851080"/>
            <a:ext cx="3808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lstStyle>
            <a:lvl1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707070"/>
                </a:solidFill>
                <a:latin typeface="Times New Roman"/>
              </a:defRPr>
            </a:lvl1pPr>
          </a:lstStyle>
          <a:p>
            <a:pPr indent="0">
              <a:lnSpc>
                <a:spcPct val="111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574-337A-42DC-BD63-AE36C2A1AD32}" type="slidenum">
              <a:rPr b="0" lang="en-US" sz="1500" spc="-1" strike="noStrike">
                <a:solidFill>
                  <a:srgbClr val="70707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838080" y="5931000"/>
            <a:ext cx="5537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700" spc="-1" strike="noStrike">
                <a:solidFill>
                  <a:srgbClr val="707070"/>
                </a:solidFill>
                <a:latin typeface="Bosch Office Sans"/>
              </a:rPr>
              <a:t>Elizabeth Latronico, Charles Shelton (Bosch), Ben Lickly, Edward Lee (Berkeley) | 2/9/2011 | © 2011 Robert Bosch LLC and affiliates. All rights reserved.</a:t>
            </a:r>
            <a:endParaRPr b="0" lang="en-US" sz="7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33520" y="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7240" bIns="0" anchor="ctr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sch Office Sans"/>
              </a:rPr>
              <a:t>Lattice Composition for Ontology Analysis</a:t>
            </a: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39" name="Picture 8" descr="JUBILAEUM.png"/>
          <p:cNvPicPr/>
          <p:nvPr/>
        </p:nvPicPr>
        <p:blipFill>
          <a:blip r:embed="rId1"/>
          <a:stretch/>
        </p:blipFill>
        <p:spPr>
          <a:xfrm>
            <a:off x="76320" y="5622840"/>
            <a:ext cx="682560" cy="289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6477120" y="191160"/>
            <a:ext cx="1828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Bosch Office Sans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838080" y="5638680"/>
            <a:ext cx="553716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8508960" y="6019920"/>
            <a:ext cx="255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3" name="TextBox 4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4" name="Slide Number Placeholder 11"/>
          <p:cNvSpPr/>
          <p:nvPr/>
        </p:nvSpPr>
        <p:spPr>
          <a:xfrm>
            <a:off x="76320" y="5851440"/>
            <a:ext cx="3808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1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88A3-D727-4EEA-9571-D6F3E3E3B90D}" type="slidenum">
              <a:rPr b="0" lang="en-US" sz="1500" spc="-1" strike="noStrike">
                <a:solidFill>
                  <a:srgbClr val="707070"/>
                </a:solidFill>
                <a:latin typeface="Bosch Office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638280"/>
            <a:ext cx="73152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t">
            <a:normAutofit fontScale="92000"/>
          </a:bodyPr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w to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upport multiple developer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ile maintaining </a:t>
            </a:r>
            <a:r>
              <a:rPr b="0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separation of concerns?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-280440">
              <a:lnSpc>
                <a:spcPct val="111000"/>
              </a:lnSpc>
              <a:buClr>
                <a:srgbClr val="425c8f"/>
              </a:buClr>
              <a:buSzPct val="65000"/>
              <a:buFont typeface="Wingdings" charset="2"/>
              <a:buChar char="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ttice composition to the rescue!</a:t>
            </a:r>
            <a:endParaRPr b="0" lang="en-US" sz="1600" spc="-1" strike="noStrike">
              <a:solidFill>
                <a:srgbClr val="000000"/>
              </a:solidFill>
              <a:latin typeface="Bosch Office Sans"/>
            </a:endParaRPr>
          </a:p>
          <a:p>
            <a:pPr marL="28044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ute cross-product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individual 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herit most rules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sub-ontologies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8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-174960">
              <a:lnSpc>
                <a:spcPct val="111000"/>
              </a:lnSpc>
              <a:buClr>
                <a:srgbClr val="425c8f"/>
              </a:buClr>
              <a:buSzPct val="50000"/>
              <a:buFont typeface="Wingdings" charset="2"/>
              <a:buChar char="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 a few rules for 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  <a:p>
            <a:pPr lvl="1" marL="560520" indent="0">
              <a:lnSpc>
                <a:spcPct val="111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sed ontology</a:t>
            </a:r>
            <a:endParaRPr b="0" lang="en-US" sz="14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114720" y="1141560"/>
            <a:ext cx="584280" cy="617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738360" y="1141560"/>
            <a:ext cx="610920" cy="623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8" descr=""/>
          <p:cNvPicPr/>
          <p:nvPr/>
        </p:nvPicPr>
        <p:blipFill>
          <a:blip r:embed="rId4"/>
          <a:stretch/>
        </p:blipFill>
        <p:spPr>
          <a:xfrm>
            <a:off x="379440" y="2006640"/>
            <a:ext cx="1398600" cy="733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7"/>
          <p:cNvSpPr/>
          <p:nvPr/>
        </p:nvSpPr>
        <p:spPr>
          <a:xfrm>
            <a:off x="1387440" y="1069920"/>
            <a:ext cx="21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invented th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analysis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my problem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50" name="TextBox 18"/>
          <p:cNvSpPr/>
          <p:nvPr/>
        </p:nvSpPr>
        <p:spPr>
          <a:xfrm>
            <a:off x="3835440" y="1069920"/>
            <a:ext cx="201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d like to combine Ben’s ontology with another for better analysis.  I’ll just  create one big ontology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5"/>
          <a:stretch/>
        </p:blipFill>
        <p:spPr>
          <a:xfrm>
            <a:off x="6931080" y="1141560"/>
            <a:ext cx="611280" cy="622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1"/>
          <p:cNvSpPr/>
          <p:nvPr/>
        </p:nvSpPr>
        <p:spPr>
          <a:xfrm>
            <a:off x="6138720" y="186228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h no!  I have to rewrite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of my rules to u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big ontology.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’ll never graduate &lt;sigh&gt;.“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3" name="Picture 133" descr=""/>
          <p:cNvPicPr/>
          <p:nvPr/>
        </p:nvPicPr>
        <p:blipFill>
          <a:blip r:embed="rId6"/>
          <a:stretch/>
        </p:blipFill>
        <p:spPr>
          <a:xfrm>
            <a:off x="2179800" y="2006640"/>
            <a:ext cx="634680" cy="3427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5"/>
          <p:cNvSpPr/>
          <p:nvPr/>
        </p:nvSpPr>
        <p:spPr>
          <a:xfrm>
            <a:off x="1530360" y="2365200"/>
            <a:ext cx="1728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he output of a 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ultiplication by zero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s zero.</a:t>
            </a:r>
            <a:endParaRPr b="0" lang="en-US" sz="11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55" name="Picture 143" descr=""/>
          <p:cNvPicPr/>
          <p:nvPr/>
        </p:nvPicPr>
        <p:blipFill>
          <a:blip r:embed="rId7"/>
          <a:stretch/>
        </p:blipFill>
        <p:spPr>
          <a:xfrm>
            <a:off x="3546360" y="2077920"/>
            <a:ext cx="2286000" cy="8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8" descr=""/>
          <p:cNvPicPr/>
          <p:nvPr/>
        </p:nvPicPr>
        <p:blipFill>
          <a:blip r:embed="rId8"/>
          <a:stretch/>
        </p:blipFill>
        <p:spPr>
          <a:xfrm>
            <a:off x="3187800" y="3591000"/>
            <a:ext cx="1260360" cy="657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1" descr=""/>
          <p:cNvPicPr/>
          <p:nvPr/>
        </p:nvPicPr>
        <p:blipFill>
          <a:blip r:embed="rId9"/>
          <a:stretch/>
        </p:blipFill>
        <p:spPr>
          <a:xfrm>
            <a:off x="4627440" y="3733920"/>
            <a:ext cx="608040" cy="44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10"/>
          <a:stretch/>
        </p:blipFill>
        <p:spPr>
          <a:xfrm>
            <a:off x="3259080" y="4525920"/>
            <a:ext cx="611280" cy="62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11"/>
          <a:stretch/>
        </p:blipFill>
        <p:spPr>
          <a:xfrm>
            <a:off x="5780160" y="4525920"/>
            <a:ext cx="582480" cy="617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7" descr=""/>
          <p:cNvPicPr/>
          <p:nvPr/>
        </p:nvPicPr>
        <p:blipFill>
          <a:blip r:embed="rId12"/>
          <a:stretch/>
        </p:blipFill>
        <p:spPr>
          <a:xfrm>
            <a:off x="5346720" y="3733920"/>
            <a:ext cx="660240" cy="441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4"/>
          <p:cNvSpPr/>
          <p:nvPr/>
        </p:nvSpPr>
        <p:spPr>
          <a:xfrm>
            <a:off x="441180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2" name="TextBox 35"/>
          <p:cNvSpPr/>
          <p:nvPr/>
        </p:nvSpPr>
        <p:spPr>
          <a:xfrm>
            <a:off x="513072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3" name="TextBox 36"/>
          <p:cNvSpPr/>
          <p:nvPr/>
        </p:nvSpPr>
        <p:spPr>
          <a:xfrm>
            <a:off x="5923080" y="3807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pic>
        <p:nvPicPr>
          <p:cNvPr id="164" name="Picture 143" descr=""/>
          <p:cNvPicPr/>
          <p:nvPr/>
        </p:nvPicPr>
        <p:blipFill>
          <a:blip r:embed="rId13"/>
          <a:stretch/>
        </p:blipFill>
        <p:spPr>
          <a:xfrm>
            <a:off x="6283440" y="3591000"/>
            <a:ext cx="2057400" cy="758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8"/>
          <p:cNvSpPr/>
          <p:nvPr/>
        </p:nvSpPr>
        <p:spPr>
          <a:xfrm>
            <a:off x="3906720" y="452592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ect!  M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iginal ontology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unmodified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  <p:sp>
        <p:nvSpPr>
          <p:cNvPr id="166" name="TextBox 39"/>
          <p:cNvSpPr/>
          <p:nvPr/>
        </p:nvSpPr>
        <p:spPr>
          <a:xfrm>
            <a:off x="6427800" y="4525920"/>
            <a:ext cx="192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eat!  Auto-composition and inheriting rules 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s me a lot of time.”</a:t>
            </a:r>
            <a:endParaRPr b="0" lang="en-US" sz="1200" spc="-1" strike="noStrike">
              <a:solidFill>
                <a:srgbClr val="000000"/>
              </a:solidFill>
              <a:latin typeface="Bosch Office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5:22:50Z</dcterms:created>
  <dc:creator/>
  <dc:description/>
  <dc:language>en-US</dc:language>
  <cp:lastModifiedBy>loe1pit</cp:lastModifiedBy>
  <dcterms:modified xsi:type="dcterms:W3CDTF">2011-02-10T17:16:40Z</dcterms:modified>
  <cp:revision>11</cp:revision>
  <dc:subject/>
  <dc:title>Default</dc:title>
</cp:coreProperties>
</file>