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6576000" cy="27432000"/>
  <p:notesSz cx="26974800" cy="36118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26974800" cy="36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11688840" cy="18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3"/>
          </p:nvPr>
        </p:nvSpPr>
        <p:spPr>
          <a:xfrm>
            <a:off x="15279840" y="0"/>
            <a:ext cx="11688480" cy="18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4457520" y="2708280"/>
            <a:ext cx="18059400" cy="1354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765600"/>
                <a:tab algn="l" pos="7531200"/>
              </a:tabLst>
            </a:pPr>
            <a:r>
              <a:rPr b="1" lang="en-US" sz="7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2697120" y="17155800"/>
            <a:ext cx="21580560" cy="162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4"/>
          </p:nvPr>
        </p:nvSpPr>
        <p:spPr>
          <a:xfrm>
            <a:off x="-360" y="34305840"/>
            <a:ext cx="11688840" cy="18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5"/>
          </p:nvPr>
        </p:nvSpPr>
        <p:spPr>
          <a:xfrm>
            <a:off x="15279840" y="34305840"/>
            <a:ext cx="11688480" cy="18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CD11C-F1ED-49CE-86D5-4EE8C2FA42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15279840" y="34305840"/>
            <a:ext cx="11688480" cy="18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4D347-23E9-42FA-898B-1D2275499B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4457880" y="2708280"/>
            <a:ext cx="18059400" cy="1354464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2697120" y="17155800"/>
            <a:ext cx="21580560" cy="162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382360" y="793800"/>
            <a:ext cx="15602040" cy="249552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28600" bIns="228600" anchor="ctr">
            <a:noAutofit/>
          </a:bodyPr>
          <a:p>
            <a:pPr indent="0">
              <a:buNone/>
              <a:tabLst>
                <a:tab algn="l" pos="0"/>
                <a:tab algn="l" pos="3765600"/>
                <a:tab algn="l" pos="7531200"/>
              </a:tabLst>
            </a:pPr>
            <a:endParaRPr b="1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009960" y="164880"/>
            <a:ext cx="4654800" cy="11930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3765600"/>
                <a:tab algn="l" pos="75312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09960" y="1471680"/>
            <a:ext cx="4654800" cy="11930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3765600"/>
                <a:tab algn="l" pos="75312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82360" y="793800"/>
            <a:ext cx="15602040" cy="249552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28600" bIns="228600" anchor="ctr">
            <a:noAutofit/>
          </a:bodyPr>
          <a:p>
            <a:pPr indent="0">
              <a:buNone/>
              <a:tabLst>
                <a:tab algn="l" pos="0"/>
                <a:tab algn="l" pos="3765600"/>
                <a:tab algn="l" pos="7531200"/>
              </a:tabLst>
            </a:pPr>
            <a:endParaRPr b="1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009960" y="164880"/>
            <a:ext cx="2271240" cy="11930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rmAutofit fontScale="89000"/>
          </a:bodyPr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3765600"/>
                <a:tab algn="l" pos="75312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5320" y="164880"/>
            <a:ext cx="2271240" cy="11930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rmAutofit fontScale="89000"/>
          </a:bodyPr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3765600"/>
                <a:tab algn="l" pos="75312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009960" y="1471680"/>
            <a:ext cx="2271240" cy="11930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rmAutofit fontScale="89000"/>
          </a:bodyPr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3765600"/>
                <a:tab algn="l" pos="75312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2395320" y="1471680"/>
            <a:ext cx="2271240" cy="11930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rmAutofit fontScale="89000"/>
          </a:bodyPr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3765600"/>
                <a:tab algn="l" pos="75312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382360" y="793800"/>
            <a:ext cx="15602040" cy="249552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28600" bIns="228600" anchor="ctr">
            <a:noAutofit/>
          </a:bodyPr>
          <a:p>
            <a:pPr indent="0">
              <a:buNone/>
              <a:tabLst>
                <a:tab algn="l" pos="0"/>
                <a:tab algn="l" pos="3765600"/>
                <a:tab algn="l" pos="7531200"/>
              </a:tabLst>
            </a:pPr>
            <a:endParaRPr b="1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009960" y="164880"/>
            <a:ext cx="1498680" cy="11930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rmAutofit fontScale="60000"/>
          </a:bodyPr>
          <a:p>
            <a:pPr marL="205560" indent="0">
              <a:spcBef>
                <a:spcPts val="901"/>
              </a:spcBef>
              <a:buNone/>
              <a:tabLst>
                <a:tab algn="l" pos="0"/>
                <a:tab algn="l" pos="3765600"/>
                <a:tab algn="l" pos="75312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583880" y="164880"/>
            <a:ext cx="1498680" cy="11930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rmAutofit fontScale="60000"/>
          </a:bodyPr>
          <a:p>
            <a:pPr marL="205560" indent="0">
              <a:spcBef>
                <a:spcPts val="901"/>
              </a:spcBef>
              <a:buNone/>
              <a:tabLst>
                <a:tab algn="l" pos="0"/>
                <a:tab algn="l" pos="3765600"/>
                <a:tab algn="l" pos="75312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3157800" y="164880"/>
            <a:ext cx="1498680" cy="11930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rmAutofit fontScale="60000"/>
          </a:bodyPr>
          <a:p>
            <a:pPr marL="205560" indent="0">
              <a:spcBef>
                <a:spcPts val="901"/>
              </a:spcBef>
              <a:buNone/>
              <a:tabLst>
                <a:tab algn="l" pos="0"/>
                <a:tab algn="l" pos="3765600"/>
                <a:tab algn="l" pos="75312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009960" y="1471680"/>
            <a:ext cx="1498680" cy="11930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rmAutofit fontScale="60000"/>
          </a:bodyPr>
          <a:p>
            <a:pPr marL="205560" indent="0">
              <a:spcBef>
                <a:spcPts val="901"/>
              </a:spcBef>
              <a:buNone/>
              <a:tabLst>
                <a:tab algn="l" pos="0"/>
                <a:tab algn="l" pos="3765600"/>
                <a:tab algn="l" pos="75312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583880" y="1471680"/>
            <a:ext cx="1498680" cy="11930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rmAutofit fontScale="60000"/>
          </a:bodyPr>
          <a:p>
            <a:pPr marL="205560" indent="0">
              <a:spcBef>
                <a:spcPts val="901"/>
              </a:spcBef>
              <a:buNone/>
              <a:tabLst>
                <a:tab algn="l" pos="0"/>
                <a:tab algn="l" pos="3765600"/>
                <a:tab algn="l" pos="75312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33157800" y="1471680"/>
            <a:ext cx="1498680" cy="11930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rmAutofit fontScale="60000"/>
          </a:bodyPr>
          <a:p>
            <a:pPr marL="205560" indent="0">
              <a:spcBef>
                <a:spcPts val="901"/>
              </a:spcBef>
              <a:buNone/>
              <a:tabLst>
                <a:tab algn="l" pos="0"/>
                <a:tab algn="l" pos="3765600"/>
                <a:tab algn="l" pos="75312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382360" y="793800"/>
            <a:ext cx="15602040" cy="249552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28600" bIns="228600" anchor="ctr">
            <a:noAutofit/>
          </a:bodyPr>
          <a:p>
            <a:pPr indent="0">
              <a:buNone/>
              <a:tabLst>
                <a:tab algn="l" pos="0"/>
                <a:tab algn="l" pos="3765600"/>
                <a:tab algn="l" pos="7531200"/>
              </a:tabLst>
            </a:pPr>
            <a:endParaRPr b="1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009960" y="164880"/>
            <a:ext cx="4654800" cy="25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3765600"/>
                <a:tab algn="l" pos="75312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382360" y="793800"/>
            <a:ext cx="15602040" cy="249552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28600" bIns="228600" anchor="ctr">
            <a:noAutofit/>
          </a:bodyPr>
          <a:p>
            <a:pPr indent="0">
              <a:buNone/>
              <a:tabLst>
                <a:tab algn="l" pos="0"/>
                <a:tab algn="l" pos="3765600"/>
                <a:tab algn="l" pos="7531200"/>
              </a:tabLst>
            </a:pPr>
            <a:endParaRPr b="1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009960" y="164880"/>
            <a:ext cx="4654800" cy="2501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3765600"/>
                <a:tab algn="l" pos="75312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382360" y="793800"/>
            <a:ext cx="15602040" cy="249552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28600" bIns="228600" anchor="ctr">
            <a:noAutofit/>
          </a:bodyPr>
          <a:p>
            <a:pPr indent="0">
              <a:buNone/>
              <a:tabLst>
                <a:tab algn="l" pos="0"/>
                <a:tab algn="l" pos="3765600"/>
                <a:tab algn="l" pos="7531200"/>
              </a:tabLst>
            </a:pPr>
            <a:endParaRPr b="1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009960" y="164880"/>
            <a:ext cx="2271240" cy="2501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3765600"/>
                <a:tab algn="l" pos="75312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32395320" y="164880"/>
            <a:ext cx="2271240" cy="2501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3765600"/>
                <a:tab algn="l" pos="75312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82360" y="793800"/>
            <a:ext cx="15602040" cy="249552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28600" bIns="228600" anchor="ctr">
            <a:noAutofit/>
          </a:bodyPr>
          <a:p>
            <a:pPr indent="0">
              <a:buNone/>
              <a:tabLst>
                <a:tab algn="l" pos="0"/>
                <a:tab algn="l" pos="3765600"/>
                <a:tab algn="l" pos="7531200"/>
              </a:tabLst>
            </a:pPr>
            <a:endParaRPr b="1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4382360" y="793800"/>
            <a:ext cx="15602040" cy="1156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3765600"/>
                <a:tab algn="l" pos="75312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382360" y="793800"/>
            <a:ext cx="15602040" cy="249552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28600" bIns="228600" anchor="ctr">
            <a:noAutofit/>
          </a:bodyPr>
          <a:p>
            <a:pPr indent="0">
              <a:buNone/>
              <a:tabLst>
                <a:tab algn="l" pos="0"/>
                <a:tab algn="l" pos="3765600"/>
                <a:tab algn="l" pos="7531200"/>
              </a:tabLst>
            </a:pPr>
            <a:endParaRPr b="1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009960" y="164880"/>
            <a:ext cx="2271240" cy="11930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rmAutofit fontScale="89000"/>
          </a:bodyPr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3765600"/>
                <a:tab algn="l" pos="75312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2395320" y="164880"/>
            <a:ext cx="2271240" cy="2501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3765600"/>
                <a:tab algn="l" pos="75312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009960" y="1471680"/>
            <a:ext cx="2271240" cy="11930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rmAutofit fontScale="89000"/>
          </a:bodyPr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3765600"/>
                <a:tab algn="l" pos="75312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382360" y="793800"/>
            <a:ext cx="15602040" cy="249552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28600" bIns="228600" anchor="ctr">
            <a:noAutofit/>
          </a:bodyPr>
          <a:p>
            <a:pPr indent="0">
              <a:buNone/>
              <a:tabLst>
                <a:tab algn="l" pos="0"/>
                <a:tab algn="l" pos="3765600"/>
                <a:tab algn="l" pos="7531200"/>
              </a:tabLst>
            </a:pPr>
            <a:endParaRPr b="1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009960" y="164880"/>
            <a:ext cx="2271240" cy="2501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3765600"/>
                <a:tab algn="l" pos="75312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2395320" y="164880"/>
            <a:ext cx="2271240" cy="11930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rmAutofit fontScale="89000"/>
          </a:bodyPr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3765600"/>
                <a:tab algn="l" pos="75312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2395320" y="1471680"/>
            <a:ext cx="2271240" cy="11930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rmAutofit fontScale="89000"/>
          </a:bodyPr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3765600"/>
                <a:tab algn="l" pos="75312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382360" y="793800"/>
            <a:ext cx="15602040" cy="249552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28600" bIns="228600" anchor="ctr">
            <a:noAutofit/>
          </a:bodyPr>
          <a:p>
            <a:pPr indent="0">
              <a:buNone/>
              <a:tabLst>
                <a:tab algn="l" pos="0"/>
                <a:tab algn="l" pos="3765600"/>
                <a:tab algn="l" pos="7531200"/>
              </a:tabLst>
            </a:pPr>
            <a:endParaRPr b="1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009960" y="164880"/>
            <a:ext cx="2271240" cy="11930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rmAutofit fontScale="89000"/>
          </a:bodyPr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3765600"/>
                <a:tab algn="l" pos="75312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2395320" y="164880"/>
            <a:ext cx="2271240" cy="11930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rmAutofit fontScale="89000"/>
          </a:bodyPr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3765600"/>
                <a:tab algn="l" pos="75312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009960" y="1471680"/>
            <a:ext cx="4654800" cy="11930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3765600"/>
                <a:tab algn="l" pos="75312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84"/>
          <p:cNvSpPr/>
          <p:nvPr/>
        </p:nvSpPr>
        <p:spPr>
          <a:xfrm>
            <a:off x="6927840" y="603360"/>
            <a:ext cx="2576844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endParaRPr b="1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193" descr=""/>
          <p:cNvPicPr/>
          <p:nvPr/>
        </p:nvPicPr>
        <p:blipFill>
          <a:blip r:embed="rId2"/>
          <a:stretch/>
        </p:blipFill>
        <p:spPr>
          <a:xfrm>
            <a:off x="0" y="0"/>
            <a:ext cx="36576000" cy="274320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206" descr="campanileTransparent"/>
          <p:cNvPicPr/>
          <p:nvPr/>
        </p:nvPicPr>
        <p:blipFill>
          <a:blip r:embed="rId3"/>
          <a:srcRect l="0" t="0" r="14387" b="0"/>
          <a:stretch/>
        </p:blipFill>
        <p:spPr>
          <a:xfrm>
            <a:off x="34634520" y="22115520"/>
            <a:ext cx="1441440" cy="5162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4382360" y="793800"/>
            <a:ext cx="15602040" cy="249552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28600" bIns="228600" anchor="ctr">
            <a:noAutofit/>
          </a:bodyPr>
          <a:p>
            <a:pPr indent="0">
              <a:buNone/>
              <a:tabLst>
                <a:tab algn="l" pos="0"/>
                <a:tab algn="l" pos="3765600"/>
                <a:tab algn="l" pos="7531200"/>
              </a:tabLst>
            </a:pPr>
            <a:r>
              <a:rPr b="1" lang="en-US" sz="7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1039320" y="26771760"/>
            <a:ext cx="8534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bruary 11, 201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9035640" y="26777520"/>
            <a:ext cx="201992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ter for Hybrid and Embedded Software Syste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30009960" y="164880"/>
            <a:ext cx="4654800" cy="2501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rmAutofit fontScale="36000"/>
          </a:bodyPr>
          <a:p>
            <a:pPr marL="123480" indent="0">
              <a:spcBef>
                <a:spcPts val="901"/>
              </a:spcBef>
              <a:tabLst>
                <a:tab algn="l" pos="0"/>
                <a:tab algn="l" pos="3765600"/>
                <a:tab algn="l" pos="7531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123480" indent="-12348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3765600"/>
                <a:tab algn="l" pos="7531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23480" indent="-123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3765600"/>
                <a:tab algn="l" pos="7531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23480" indent="-12348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3765600"/>
                <a:tab algn="l" pos="7531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123480" indent="-12348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3765600"/>
                <a:tab algn="l" pos="7531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123480" indent="-12348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3765600"/>
                <a:tab algn="l" pos="7531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123480" indent="-12348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3765600"/>
                <a:tab algn="l" pos="7531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212"/>
          <p:cNvSpPr/>
          <p:nvPr/>
        </p:nvSpPr>
        <p:spPr>
          <a:xfrm>
            <a:off x="14955480" y="3416400"/>
            <a:ext cx="69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765600"/>
                <a:tab algn="l" pos="75312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http://chess.eecs.berkeley.edu/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11" descr="ucbseal_line_k.eps"/>
          <p:cNvPicPr/>
          <p:nvPr/>
        </p:nvPicPr>
        <p:blipFill>
          <a:blip r:embed="rId4"/>
          <a:stretch/>
        </p:blipFill>
        <p:spPr>
          <a:xfrm>
            <a:off x="22499640" y="3489480"/>
            <a:ext cx="1220760" cy="122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29" descr=""/>
          <p:cNvPicPr/>
          <p:nvPr/>
        </p:nvPicPr>
        <p:blipFill>
          <a:blip r:embed="rId1"/>
          <a:stretch/>
        </p:blipFill>
        <p:spPr>
          <a:xfrm>
            <a:off x="17059320" y="7758000"/>
            <a:ext cx="3828960" cy="1514520"/>
          </a:xfrm>
          <a:prstGeom prst="rect">
            <a:avLst/>
          </a:prstGeom>
          <a:ln w="0">
            <a:noFill/>
          </a:ln>
        </p:spPr>
      </p:pic>
      <p:sp>
        <p:nvSpPr>
          <p:cNvPr id="53" name="Text Box 107"/>
          <p:cNvSpPr/>
          <p:nvPr/>
        </p:nvSpPr>
        <p:spPr>
          <a:xfrm>
            <a:off x="1349280" y="4986360"/>
            <a:ext cx="34063200" cy="176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 Black"/>
              </a:rPr>
              <a:t>Motivation</a:t>
            </a:r>
            <a:endParaRPr b="1" lang="en-US" sz="5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Ontologies can be used to analyze models.  A developer defines  lattices plus actor constraint rules.  Here are some examples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 Antiqua"/>
              </a:rPr>
              <a:t>           </a:t>
            </a:r>
            <a:r>
              <a:rPr b="1" lang="en-US" sz="4000" spc="-1" strike="noStrike">
                <a:solidFill>
                  <a:srgbClr val="000000"/>
                </a:solidFill>
                <a:latin typeface="Book Antiqua"/>
              </a:rPr>
              <a:t>Constant / Non-constant                                                  Observability</a:t>
            </a:r>
            <a:r>
              <a:rPr b="1" lang="en-US" sz="4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Book Antiqua"/>
              </a:rPr>
              <a:t>                                Abstract Interpretation (for scalar values)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-"/>
              <a:tabLst>
                <a:tab algn="l" pos="3765600"/>
                <a:tab algn="l" pos="7531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-"/>
              <a:tabLst>
                <a:tab algn="l" pos="3765600"/>
                <a:tab algn="l" pos="7531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-"/>
              <a:tabLst>
                <a:tab algn="l" pos="3765600"/>
                <a:tab algn="l" pos="7531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-"/>
              <a:tabLst>
                <a:tab algn="l" pos="3765600"/>
                <a:tab algn="l" pos="7531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-"/>
              <a:tabLst>
                <a:tab algn="l" pos="3765600"/>
                <a:tab algn="l" pos="7531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-"/>
              <a:tabLst>
                <a:tab algn="l" pos="3765600"/>
                <a:tab algn="l" pos="7531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-"/>
              <a:tabLst>
                <a:tab algn="l" pos="3765600"/>
                <a:tab algn="l" pos="7531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-"/>
              <a:tabLst>
                <a:tab algn="l" pos="3765600"/>
                <a:tab algn="l" pos="7531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-"/>
              <a:tabLst>
                <a:tab algn="l" pos="3765600"/>
                <a:tab algn="l" pos="7531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If an ontology is a lattice, the Rehof and Mogensen algorithm performs model analysis in linear time (</a:t>
            </a:r>
            <a:r>
              <a:rPr b="0" lang="ja-JP" sz="3200" spc="-1" strike="noStrike">
                <a:solidFill>
                  <a:srgbClr val="000000"/>
                </a:solidFill>
                <a:latin typeface="Book Antiqu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ractable Constraints in Finite Semilattices</a:t>
            </a:r>
            <a:r>
              <a:rPr b="0" lang="ja-JP" sz="3200" spc="-1" strike="noStrike">
                <a:solidFill>
                  <a:srgbClr val="000000"/>
                </a:solidFill>
                <a:latin typeface="Book Antiqua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, 1996)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(Time is linear in the number of constraints, for finite height lattices.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3501"/>
              </a:spcAft>
              <a:tabLst>
                <a:tab algn="l" pos="0"/>
                <a:tab algn="l" pos="3765600"/>
                <a:tab algn="l" pos="75312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 Black"/>
              </a:rPr>
              <a:t>Why compose lattices? </a:t>
            </a:r>
            <a:endParaRPr b="1" lang="en-US" sz="5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A product lattice can be more powerful than a set of orthogonal individual lattices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(Click and Cooper, </a:t>
            </a:r>
            <a:r>
              <a:rPr b="0" lang="ja-JP" sz="3200" spc="-1" strike="noStrike">
                <a:solidFill>
                  <a:srgbClr val="000000"/>
                </a:solidFill>
                <a:latin typeface="Book Antiqu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ombining Analyses, Combining Optimizations</a:t>
            </a:r>
            <a:r>
              <a:rPr b="0" lang="ja-JP" sz="3200" spc="-1" strike="noStrike">
                <a:solidFill>
                  <a:srgbClr val="000000"/>
                </a:solidFill>
                <a:latin typeface="Book Antiqua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, 1995)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•"/>
              <a:tabLst>
                <a:tab algn="l" pos="3765600"/>
                <a:tab algn="l" pos="753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e original rules from all sub-lattices are inherited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•"/>
              <a:tabLst>
                <a:tab algn="l" pos="3765600"/>
                <a:tab algn="l" pos="753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e developer writes a few new rules taking advantage of all sub-lattice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is approach  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Supports multiple developers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,  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Minimizes dependencies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, and 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Gives maximum analysis power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3501"/>
              </a:spcAft>
              <a:tabLst>
                <a:tab algn="l" pos="0"/>
                <a:tab algn="l" pos="3765600"/>
                <a:tab algn="l" pos="75312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 Black"/>
              </a:rPr>
              <a:t>Current status and objectives</a:t>
            </a:r>
            <a:endParaRPr b="1" lang="en-US" sz="5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2001"/>
              </a:spcAft>
              <a:tabLst>
                <a:tab algn="l" pos="0"/>
                <a:tab algn="l" pos="3765600"/>
                <a:tab algn="l" pos="753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e product lattice is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2001"/>
              </a:spcAft>
              <a:buClr>
                <a:srgbClr val="000000"/>
              </a:buClr>
              <a:buFont typeface="Book Antiqua"/>
              <a:buChar char="•"/>
              <a:tabLst>
                <a:tab algn="l" pos="3765600"/>
                <a:tab algn="l" pos="753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Automatically created from sub-lattice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2001"/>
              </a:spcAft>
              <a:buClr>
                <a:srgbClr val="000000"/>
              </a:buClr>
              <a:buFont typeface="Book Antiqua"/>
              <a:buChar char="•"/>
              <a:tabLst>
                <a:tab algn="l" pos="3765600"/>
                <a:tab algn="l" pos="753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hecked to ensure that the result is also a lattice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43" descr=""/>
          <p:cNvPicPr/>
          <p:nvPr/>
        </p:nvPicPr>
        <p:blipFill>
          <a:blip r:embed="rId2"/>
          <a:stretch/>
        </p:blipFill>
        <p:spPr>
          <a:xfrm>
            <a:off x="19632600" y="15535440"/>
            <a:ext cx="15238440" cy="5619600"/>
          </a:xfrm>
          <a:prstGeom prst="rect">
            <a:avLst/>
          </a:prstGeom>
          <a:ln w="0">
            <a:noFill/>
          </a:ln>
        </p:spPr>
      </p:pic>
      <p:sp>
        <p:nvSpPr>
          <p:cNvPr id="55" name="Date Placeholder 3"/>
          <p:cNvSpPr/>
          <p:nvPr/>
        </p:nvSpPr>
        <p:spPr>
          <a:xfrm>
            <a:off x="1039680" y="26771760"/>
            <a:ext cx="853452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bruary 17, 201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9036000" y="26777880"/>
            <a:ext cx="2019924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ter for Hybrid and Embedded Software Syste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07"/>
          <p:cNvSpPr/>
          <p:nvPr/>
        </p:nvSpPr>
        <p:spPr>
          <a:xfrm>
            <a:off x="13295160" y="22210560"/>
            <a:ext cx="2153952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2001"/>
              </a:spcAft>
              <a:tabLst>
                <a:tab algn="l" pos="0"/>
                <a:tab algn="l" pos="3765600"/>
                <a:tab algn="l" pos="753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Remaining challenges include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2001"/>
              </a:spcAft>
              <a:buClr>
                <a:srgbClr val="000000"/>
              </a:buClr>
              <a:buFont typeface="Book Antiqua"/>
              <a:buChar char="•"/>
              <a:tabLst>
                <a:tab algn="l" pos="3765600"/>
                <a:tab algn="l" pos="753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Allowing the user to edit the product lattice, especially Top and Bottom concept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2001"/>
              </a:spcAft>
              <a:buClr>
                <a:srgbClr val="000000"/>
              </a:buClr>
              <a:buFont typeface="Book Antiqua"/>
              <a:buChar char="•"/>
              <a:tabLst>
                <a:tab algn="l" pos="3765600"/>
                <a:tab algn="l" pos="753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ome concepts in the product lattice don</a:t>
            </a:r>
            <a:r>
              <a:rPr b="0" lang="ja-JP" sz="3200" spc="-1" strike="noStrike">
                <a:solidFill>
                  <a:srgbClr val="000000"/>
                </a:solidFill>
                <a:latin typeface="Book Antiqua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 make sense.  Allow users to note these with acceptance criteria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2001"/>
              </a:spcAft>
              <a:buClr>
                <a:srgbClr val="000000"/>
              </a:buClr>
              <a:buFont typeface="Book Antiqua"/>
              <a:buChar char="•"/>
              <a:tabLst>
                <a:tab algn="l" pos="3765600"/>
                <a:tab algn="l" pos="753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ombining finite and infinite width lattice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2001"/>
              </a:spcAft>
              <a:buClr>
                <a:srgbClr val="000000"/>
              </a:buClr>
              <a:buFont typeface="Book Antiqua"/>
              <a:buChar char="•"/>
              <a:tabLst>
                <a:tab algn="l" pos="3765600"/>
                <a:tab algn="l" pos="753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ombining inherited and new rules and ensuring monotonicity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382360" y="793800"/>
            <a:ext cx="15602040" cy="249552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228600" bIns="228600" anchor="ctr">
            <a:noAutofit/>
          </a:bodyPr>
          <a:p>
            <a:pPr indent="0">
              <a:buNone/>
              <a:tabLst>
                <a:tab algn="l" pos="0"/>
                <a:tab algn="l" pos="3765600"/>
                <a:tab algn="l" pos="7531200"/>
              </a:tabLst>
            </a:pPr>
            <a:r>
              <a:rPr b="1" lang="en-US" sz="7000" spc="-1" strike="noStrike">
                <a:solidFill>
                  <a:srgbClr val="000000"/>
                </a:solidFill>
                <a:latin typeface="Arial"/>
              </a:rPr>
              <a:t>Lattice Composition for Ontology Analysis</a:t>
            </a:r>
            <a:endParaRPr b="1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009600" y="164880"/>
            <a:ext cx="4930920" cy="2501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3765600"/>
                <a:tab algn="l" pos="753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izabeth Latronico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3765600"/>
                <a:tab algn="l" pos="753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rles Shelton (Bosc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3765600"/>
                <a:tab algn="l" pos="753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3765600"/>
                <a:tab algn="l" pos="753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n Lickly, Edward Lee (Berkele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81" descr="125-Bosch_Email-Signature_neutral"/>
          <p:cNvPicPr/>
          <p:nvPr/>
        </p:nvPicPr>
        <p:blipFill>
          <a:blip r:embed="rId3"/>
          <a:stretch/>
        </p:blipFill>
        <p:spPr>
          <a:xfrm>
            <a:off x="32821560" y="2906640"/>
            <a:ext cx="2432160" cy="1025640"/>
          </a:xfrm>
          <a:prstGeom prst="rect">
            <a:avLst/>
          </a:prstGeom>
          <a:ln w="0">
            <a:noFill/>
          </a:ln>
        </p:spPr>
      </p:pic>
      <p:sp>
        <p:nvSpPr>
          <p:cNvPr id="61" name="Text Box 108"/>
          <p:cNvSpPr/>
          <p:nvPr/>
        </p:nvSpPr>
        <p:spPr>
          <a:xfrm>
            <a:off x="24618960" y="3483000"/>
            <a:ext cx="9423360" cy="31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earn more!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ry the </a:t>
            </a:r>
            <a:r>
              <a:rPr b="1" lang="en-US" sz="3200" spc="-1" strike="noStrike">
                <a:solidFill>
                  <a:srgbClr val="0066ff"/>
                </a:solidFill>
                <a:latin typeface="Book Antiqua"/>
              </a:rPr>
              <a:t>ptolemy.data.ontologies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package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Publication: </a:t>
            </a:r>
            <a:r>
              <a:rPr b="0" lang="ja-JP" sz="3200" spc="-1" strike="noStrike">
                <a:solidFill>
                  <a:srgbClr val="000000"/>
                </a:solidFill>
                <a:latin typeface="Book Antiqu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calable Semantic Annotation using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Lattice-based Ontologies</a:t>
            </a:r>
            <a:r>
              <a:rPr b="0" lang="ja-JP" sz="3200" spc="-1" strike="noStrike">
                <a:solidFill>
                  <a:srgbClr val="000000"/>
                </a:solidFill>
                <a:latin typeface="Book Antiqua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, MODELS 2009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08"/>
          <p:cNvSpPr/>
          <p:nvPr/>
        </p:nvSpPr>
        <p:spPr>
          <a:xfrm>
            <a:off x="29808360" y="10004400"/>
            <a:ext cx="4751640" cy="15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91960" indent="-291960" algn="ctr"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e output of 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 algn="ctr"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multiplication by zero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 algn="ctr"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is zero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 algn="just">
              <a:lnSpc>
                <a:spcPct val="100000"/>
              </a:lnSpc>
              <a:spcAft>
                <a:spcPts val="2001"/>
              </a:spcAft>
              <a:tabLst>
                <a:tab algn="l" pos="0"/>
                <a:tab algn="l" pos="3765600"/>
                <a:tab algn="l" pos="75312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08"/>
          <p:cNvSpPr/>
          <p:nvPr/>
        </p:nvSpPr>
        <p:spPr>
          <a:xfrm>
            <a:off x="7450200" y="10912320"/>
            <a:ext cx="3770280" cy="13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A Const actor</a:t>
            </a:r>
            <a:r>
              <a:rPr b="0" lang="ja-JP" sz="3200" spc="-1" strike="noStrike">
                <a:solidFill>
                  <a:srgbClr val="000000"/>
                </a:solidFill>
                <a:latin typeface="Book Antiqua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output is constant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08"/>
          <p:cNvSpPr/>
          <p:nvPr/>
        </p:nvSpPr>
        <p:spPr>
          <a:xfrm>
            <a:off x="4408560" y="9769320"/>
            <a:ext cx="4751280" cy="10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91960" indent="-291960" algn="ctr"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e output of a Ramp actor can change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08"/>
          <p:cNvSpPr/>
          <p:nvPr/>
        </p:nvSpPr>
        <p:spPr>
          <a:xfrm>
            <a:off x="16490880" y="9299520"/>
            <a:ext cx="4751280" cy="15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91960" indent="-291960" algn="ctr"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e input to a Display actor is observable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08"/>
          <p:cNvSpPr/>
          <p:nvPr/>
        </p:nvSpPr>
        <p:spPr>
          <a:xfrm>
            <a:off x="11315880" y="10848960"/>
            <a:ext cx="5470200" cy="10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91960" indent="-291960" algn="r"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A Discard actor</a:t>
            </a:r>
            <a:r>
              <a:rPr b="0" lang="ja-JP" sz="3200" spc="-1" strike="noStrike">
                <a:solidFill>
                  <a:srgbClr val="000000"/>
                </a:solidFill>
                <a:latin typeface="Book Antiqua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 input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an not be observed.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08"/>
          <p:cNvSpPr/>
          <p:nvPr/>
        </p:nvSpPr>
        <p:spPr>
          <a:xfrm>
            <a:off x="19729440" y="14439960"/>
            <a:ext cx="1514484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91960" indent="-291960" algn="ctr"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ook Antiqua"/>
              </a:rPr>
              <a:t>Product Lattice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21" descr=""/>
          <p:cNvPicPr/>
          <p:nvPr/>
        </p:nvPicPr>
        <p:blipFill>
          <a:blip r:embed="rId4"/>
          <a:stretch/>
        </p:blipFill>
        <p:spPr>
          <a:xfrm>
            <a:off x="1252440" y="8396280"/>
            <a:ext cx="3381480" cy="2467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24" descr=""/>
          <p:cNvPicPr/>
          <p:nvPr/>
        </p:nvPicPr>
        <p:blipFill>
          <a:blip r:embed="rId5"/>
          <a:stretch/>
        </p:blipFill>
        <p:spPr>
          <a:xfrm>
            <a:off x="4433760" y="10901520"/>
            <a:ext cx="2847960" cy="10000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25" descr=""/>
          <p:cNvPicPr/>
          <p:nvPr/>
        </p:nvPicPr>
        <p:blipFill>
          <a:blip r:embed="rId6"/>
          <a:stretch/>
        </p:blipFill>
        <p:spPr>
          <a:xfrm>
            <a:off x="4824360" y="8082000"/>
            <a:ext cx="4753080" cy="17240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27" descr=""/>
          <p:cNvPicPr/>
          <p:nvPr/>
        </p:nvPicPr>
        <p:blipFill>
          <a:blip r:embed="rId7"/>
          <a:stretch/>
        </p:blipFill>
        <p:spPr>
          <a:xfrm>
            <a:off x="12310920" y="8234280"/>
            <a:ext cx="3667320" cy="2448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28" descr=""/>
          <p:cNvPicPr/>
          <p:nvPr/>
        </p:nvPicPr>
        <p:blipFill>
          <a:blip r:embed="rId8"/>
          <a:stretch/>
        </p:blipFill>
        <p:spPr>
          <a:xfrm>
            <a:off x="22618800" y="8196120"/>
            <a:ext cx="6999120" cy="36673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31" descr=""/>
          <p:cNvPicPr/>
          <p:nvPr/>
        </p:nvPicPr>
        <p:blipFill>
          <a:blip r:embed="rId9"/>
          <a:stretch/>
        </p:blipFill>
        <p:spPr>
          <a:xfrm>
            <a:off x="16997400" y="10458360"/>
            <a:ext cx="4238640" cy="16002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33" descr=""/>
          <p:cNvPicPr/>
          <p:nvPr/>
        </p:nvPicPr>
        <p:blipFill>
          <a:blip r:embed="rId10"/>
          <a:stretch/>
        </p:blipFill>
        <p:spPr>
          <a:xfrm>
            <a:off x="30584880" y="8172360"/>
            <a:ext cx="3181320" cy="17146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35" descr=""/>
          <p:cNvPicPr/>
          <p:nvPr/>
        </p:nvPicPr>
        <p:blipFill>
          <a:blip r:embed="rId11"/>
          <a:stretch/>
        </p:blipFill>
        <p:spPr>
          <a:xfrm>
            <a:off x="7850160" y="17864280"/>
            <a:ext cx="10752120" cy="12762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108"/>
          <p:cNvSpPr/>
          <p:nvPr/>
        </p:nvSpPr>
        <p:spPr>
          <a:xfrm>
            <a:off x="1679400" y="20302560"/>
            <a:ext cx="108144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91960" indent="-291960" algn="ctr"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e input to a multiply be zero operation is unobservable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08"/>
          <p:cNvSpPr/>
          <p:nvPr/>
        </p:nvSpPr>
        <p:spPr>
          <a:xfrm>
            <a:off x="13685760" y="19118160"/>
            <a:ext cx="527040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91960" indent="-291960" algn="ctr"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e output of a multiply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 algn="ctr">
              <a:lnSpc>
                <a:spcPct val="100000"/>
              </a:lnSpc>
              <a:tabLst>
                <a:tab algn="l" pos="0"/>
                <a:tab algn="l" pos="3765600"/>
                <a:tab algn="l" pos="753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by zero is constant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37" descr=""/>
          <p:cNvPicPr/>
          <p:nvPr/>
        </p:nvPicPr>
        <p:blipFill>
          <a:blip r:embed="rId12"/>
          <a:stretch/>
        </p:blipFill>
        <p:spPr>
          <a:xfrm>
            <a:off x="1725480" y="18900720"/>
            <a:ext cx="1077120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1T17:45:11Z</dcterms:created>
  <dc:creator>cxh</dc:creator>
  <dc:description/>
  <dc:language>en-US</dc:language>
  <cp:lastModifiedBy>Ben</cp:lastModifiedBy>
  <cp:lastPrinted>2010-02-04T19:34:07Z</cp:lastPrinted>
  <dcterms:modified xsi:type="dcterms:W3CDTF">2011-01-24T22:14:16Z</dcterms:modified>
  <cp:revision>131</cp:revision>
  <dc:subject/>
  <dc:title>Slide 1</dc:title>
</cp:coreProperties>
</file>