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8535988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5A07-515A-42E4-B740-8CD827896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EF97-5B2E-4F01-8DBC-F80FF18BE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FF28-7963-45B4-89B8-2BC4159B6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E9FB-A5D2-4A6D-8F7C-42A4C2ADA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E005-4897-450B-BDB5-2641359122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453A-C61B-4A49-A5C4-F9D2825C4D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DCE0-507D-43CA-9D6A-FE575DE21A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0A52-86FD-4A1B-9CA8-C67A29E4B0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63DE-CADC-4A17-8CF2-28BE699F02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5889-9937-412F-B7CB-8C39112DBC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0F3F-3A1C-40B4-A67C-96FF47EBA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0404-FB0B-4594-B2CA-C30F01DED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D93D-262B-4636-A2BC-EEEBD8723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09B1-B4BD-4DAA-89E6-8503F15590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CD52-867F-4E99-9830-A5EEA1E81D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0B00-5831-423E-8B3B-0B9CFE4506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A1DD-C549-48A8-B78A-0FEEED17ED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C0B-8D9A-4C74-BD35-0955EC935A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128-D273-443D-B2C6-63DFBC9862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9CC-94AE-4B44-9DCC-67AC4E1793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AAC-9CD8-43B0-A17A-7D4C295735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1F5-1C71-4DFD-A8F1-427D88112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3709-C64E-4FD4-842B-6CF9BEFD55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B2E-FDC9-46F3-A8BB-06E2877C11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DD9-9FEE-43EC-96DF-A903823A97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6F1-DE25-456A-926E-4A12A1AAFD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52D-E030-4C9B-B3E4-2415C69CA0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1F0-1B67-4A19-90CB-DE9FF5521C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D45-C976-4C10-AA8F-48FD64F961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D39-B5A9-45B9-ACE8-E15228B97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14EB-9736-446B-95D5-17094AD84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3603-2F74-422C-95C6-899529447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7467-AFF6-4232-91E6-89ABEFE8D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95AF-44BE-4F26-8A93-607249317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08D1-FD97-45E2-97EE-06EDE6775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C1F5-5368-4BF5-935F-CEA46B42A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A87D-FDEC-4368-AB2F-CF743FCDAF33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45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FD12-44BB-4EED-B19C-18EE616C51A4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89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93" name="Picture 11" descr="PPTFootCol.PNG"/>
          <p:cNvPicPr/>
          <p:nvPr/>
        </p:nvPicPr>
        <p:blipFill>
          <a:blip r:embed="rId4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OCOL.png"/>
          <p:cNvPicPr/>
          <p:nvPr/>
        </p:nvPicPr>
        <p:blipFill>
          <a:blip r:embed="rId5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D661-2BEB-487F-94A6-AE63CD9A7DAA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38080" y="5931000"/>
            <a:ext cx="5537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707070"/>
                </a:solidFill>
                <a:latin typeface="Bosch Office Sans"/>
              </a:rPr>
              <a:t>Elizabeth Latronico, Charles Shelton (Bosch), Ben Lickly, Edward Lee (Berkeley) | 2/9/2011 | © 2011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Lattice Composition for Ontology Analysis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39" name="Picture 8" descr="JUBILAEUM.png"/>
          <p:cNvPicPr/>
          <p:nvPr/>
        </p:nvPicPr>
        <p:blipFill>
          <a:blip r:embed="rId1"/>
          <a:stretch/>
        </p:blipFill>
        <p:spPr>
          <a:xfrm>
            <a:off x="76320" y="5622840"/>
            <a:ext cx="682560" cy="28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477120" y="191160"/>
            <a:ext cx="1828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sch Office San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38080" y="5638680"/>
            <a:ext cx="55371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08960" y="6019920"/>
            <a:ext cx="255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3" name="TextBox 4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76320" y="5851440"/>
            <a:ext cx="380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0B4E-1700-40DF-BF4E-1DDE83271831}" type="slidenum">
              <a:rPr b="0" lang="en-US" sz="1500" spc="-1" strike="noStrike">
                <a:solidFill>
                  <a:srgbClr val="707070"/>
                </a:solidFill>
                <a:latin typeface="Bosch Office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638280"/>
            <a:ext cx="73152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92000"/>
          </a:bodyPr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upport multiple develop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le maintaining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eparation of concerns?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tice composition to the rescue!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 cross-product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individual 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herit most rules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sub-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a few rules for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ed ontology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114720" y="1141560"/>
            <a:ext cx="5842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738360" y="1141560"/>
            <a:ext cx="61092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8" descr=""/>
          <p:cNvPicPr/>
          <p:nvPr/>
        </p:nvPicPr>
        <p:blipFill>
          <a:blip r:embed="rId4"/>
          <a:stretch/>
        </p:blipFill>
        <p:spPr>
          <a:xfrm>
            <a:off x="379440" y="2006640"/>
            <a:ext cx="1398600" cy="733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7"/>
          <p:cNvSpPr/>
          <p:nvPr/>
        </p:nvSpPr>
        <p:spPr>
          <a:xfrm>
            <a:off x="1387440" y="106992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invented th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analysis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my problem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3835440" y="1069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d like to combine Ben’s ontology with another for better analysis.  I’ll just  create one big ontology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6931080" y="1141560"/>
            <a:ext cx="611280" cy="622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6138720" y="186228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h no!  I have to rewrit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of my rules to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g ontology.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never graduate &lt;sigh&gt;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3" name="Picture 133" descr=""/>
          <p:cNvPicPr/>
          <p:nvPr/>
        </p:nvPicPr>
        <p:blipFill>
          <a:blip r:embed="rId6"/>
          <a:stretch/>
        </p:blipFill>
        <p:spPr>
          <a:xfrm>
            <a:off x="2179800" y="2006640"/>
            <a:ext cx="634680" cy="34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5"/>
          <p:cNvSpPr/>
          <p:nvPr/>
        </p:nvSpPr>
        <p:spPr>
          <a:xfrm>
            <a:off x="1530360" y="2365200"/>
            <a:ext cx="1728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output of a 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ultiplication by zero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s zero.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5" name="Picture 143" descr=""/>
          <p:cNvPicPr/>
          <p:nvPr/>
        </p:nvPicPr>
        <p:blipFill>
          <a:blip r:embed="rId7"/>
          <a:stretch/>
        </p:blipFill>
        <p:spPr>
          <a:xfrm>
            <a:off x="3546360" y="2077920"/>
            <a:ext cx="228600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8" descr=""/>
          <p:cNvPicPr/>
          <p:nvPr/>
        </p:nvPicPr>
        <p:blipFill>
          <a:blip r:embed="rId8"/>
          <a:stretch/>
        </p:blipFill>
        <p:spPr>
          <a:xfrm>
            <a:off x="3187800" y="3591000"/>
            <a:ext cx="1260360" cy="65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1" descr=""/>
          <p:cNvPicPr/>
          <p:nvPr/>
        </p:nvPicPr>
        <p:blipFill>
          <a:blip r:embed="rId9"/>
          <a:stretch/>
        </p:blipFill>
        <p:spPr>
          <a:xfrm>
            <a:off x="4627440" y="3733920"/>
            <a:ext cx="608040" cy="44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10"/>
          <a:stretch/>
        </p:blipFill>
        <p:spPr>
          <a:xfrm>
            <a:off x="3259080" y="4525920"/>
            <a:ext cx="611280" cy="62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11"/>
          <a:stretch/>
        </p:blipFill>
        <p:spPr>
          <a:xfrm>
            <a:off x="5780160" y="4525920"/>
            <a:ext cx="582480" cy="6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7" descr=""/>
          <p:cNvPicPr/>
          <p:nvPr/>
        </p:nvPicPr>
        <p:blipFill>
          <a:blip r:embed="rId12"/>
          <a:stretch/>
        </p:blipFill>
        <p:spPr>
          <a:xfrm>
            <a:off x="5346720" y="3733920"/>
            <a:ext cx="660240" cy="441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4"/>
          <p:cNvSpPr/>
          <p:nvPr/>
        </p:nvSpPr>
        <p:spPr>
          <a:xfrm>
            <a:off x="441180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513072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592308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4" name="Picture 143" descr=""/>
          <p:cNvPicPr/>
          <p:nvPr/>
        </p:nvPicPr>
        <p:blipFill>
          <a:blip r:embed="rId13"/>
          <a:stretch/>
        </p:blipFill>
        <p:spPr>
          <a:xfrm>
            <a:off x="6283440" y="3591000"/>
            <a:ext cx="2057400" cy="758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3906720" y="452592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!  M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iginal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unmodified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427800" y="45259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eat!  Auto-composition and inheriting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s me a lot of time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50Z</dcterms:created>
  <dc:creator/>
  <dc:description/>
  <dc:language>en-US</dc:language>
  <cp:lastModifiedBy>loe1pit</cp:lastModifiedBy>
  <dcterms:modified xsi:type="dcterms:W3CDTF">2011-02-10T17:16:40Z</dcterms:modified>
  <cp:revision>11</cp:revision>
  <dc:subject/>
  <dc:title>Default</dc:title>
</cp:coreProperties>
</file>