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6576000" cy="27432000"/>
  <p:notesSz cx="26974800" cy="36118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26974800" cy="36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1168884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15279840" y="0"/>
            <a:ext cx="1168848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4457520" y="2708280"/>
            <a:ext cx="18059400" cy="135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7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2697120" y="17155800"/>
            <a:ext cx="21580560" cy="162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34305840"/>
            <a:ext cx="1168884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15279840" y="34305840"/>
            <a:ext cx="1168848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0C7A-6703-47BF-A71C-15F0AF0E7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15279840" y="34305840"/>
            <a:ext cx="1168848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7502-5444-4E8A-8563-84E66769F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4457880" y="2708280"/>
            <a:ext cx="18059400" cy="135446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97120" y="17155800"/>
            <a:ext cx="21580560" cy="162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465480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09960" y="1471680"/>
            <a:ext cx="465480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00996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39532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83880" y="1648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157800" y="1648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009960" y="14716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83880" y="14716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3157800" y="14716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009960" y="164880"/>
            <a:ext cx="4654800" cy="25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465480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82360" y="793800"/>
            <a:ext cx="15602040" cy="115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00996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39532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009960" y="1471680"/>
            <a:ext cx="465480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84"/>
          <p:cNvSpPr/>
          <p:nvPr/>
        </p:nvSpPr>
        <p:spPr>
          <a:xfrm>
            <a:off x="6927840" y="603360"/>
            <a:ext cx="257684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93" descr=""/>
          <p:cNvPicPr/>
          <p:nvPr/>
        </p:nvPicPr>
        <p:blipFill>
          <a:blip r:embed="rId2"/>
          <a:stretch/>
        </p:blipFill>
        <p:spPr>
          <a:xfrm>
            <a:off x="0" y="0"/>
            <a:ext cx="36576000" cy="27432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06" descr="campanileTransparent"/>
          <p:cNvPicPr/>
          <p:nvPr/>
        </p:nvPicPr>
        <p:blipFill>
          <a:blip r:embed="rId3"/>
          <a:srcRect l="0" t="0" r="14387" b="0"/>
          <a:stretch/>
        </p:blipFill>
        <p:spPr>
          <a:xfrm>
            <a:off x="34634520" y="22115520"/>
            <a:ext cx="144144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7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039320" y="26771760"/>
            <a:ext cx="8534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1, 20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9035640" y="26777520"/>
            <a:ext cx="201992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for Hybrid and Embedded Softwar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30009960" y="164880"/>
            <a:ext cx="465480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36000"/>
          </a:bodyPr>
          <a:p>
            <a:pPr marL="123480" indent="0">
              <a:spcBef>
                <a:spcPts val="901"/>
              </a:spcBef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12"/>
          <p:cNvSpPr/>
          <p:nvPr/>
        </p:nvSpPr>
        <p:spPr>
          <a:xfrm>
            <a:off x="14955480" y="3416400"/>
            <a:ext cx="69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65600"/>
                <a:tab algn="l" pos="75312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http://chess.eecs.berkeley.edu/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1" descr="ucbseal_line_k.eps"/>
          <p:cNvPicPr/>
          <p:nvPr/>
        </p:nvPicPr>
        <p:blipFill>
          <a:blip r:embed="rId4"/>
          <a:stretch/>
        </p:blipFill>
        <p:spPr>
          <a:xfrm>
            <a:off x="22499640" y="3489480"/>
            <a:ext cx="122076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9" descr=""/>
          <p:cNvPicPr/>
          <p:nvPr/>
        </p:nvPicPr>
        <p:blipFill>
          <a:blip r:embed="rId1"/>
          <a:stretch/>
        </p:blipFill>
        <p:spPr>
          <a:xfrm>
            <a:off x="17059320" y="7758000"/>
            <a:ext cx="3828960" cy="1514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7"/>
          <p:cNvSpPr/>
          <p:nvPr/>
        </p:nvSpPr>
        <p:spPr>
          <a:xfrm>
            <a:off x="1349280" y="4986360"/>
            <a:ext cx="34063200" cy="176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ntologies can be used to analyze models.  A developer defines  lattices plus actor constraint rules.  Here are some exampl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Constant / Non-constant                                                  Observability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                                Abstract Interpretation (for scalar values)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f an ontology is a lattice, the Rehof and Mogensen algorithm performs model analysis in linear time (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ctable Constraints in Finite Semilattices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1996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Time is linear in the number of constraints, for finite height lattices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Why compose lattices? 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product lattice can be more powerful than a set of orthogonal individual lattices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Click and Cooper, 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bining Analyses, Combining Optimizations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1995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riginal rules from all sub-lattices are inherit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developer writes a few new rules taking advantage of all sub-latti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s approach 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upports multiple developer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inimizes dependenc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ives maximum analysis pow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Current status and objectives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product lattice 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utomatically created from sub-latti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hecked to ensure that the result is also a latti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3" descr=""/>
          <p:cNvPicPr/>
          <p:nvPr/>
        </p:nvPicPr>
        <p:blipFill>
          <a:blip r:embed="rId2"/>
          <a:stretch/>
        </p:blipFill>
        <p:spPr>
          <a:xfrm>
            <a:off x="19632600" y="15535440"/>
            <a:ext cx="15238440" cy="5619600"/>
          </a:xfrm>
          <a:prstGeom prst="rect">
            <a:avLst/>
          </a:prstGeom>
          <a:ln w="0">
            <a:noFill/>
          </a:ln>
        </p:spPr>
      </p:pic>
      <p:sp>
        <p:nvSpPr>
          <p:cNvPr id="55" name="Date Placeholder 3"/>
          <p:cNvSpPr/>
          <p:nvPr/>
        </p:nvSpPr>
        <p:spPr>
          <a:xfrm>
            <a:off x="1039680" y="26771760"/>
            <a:ext cx="8534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9036000" y="26777880"/>
            <a:ext cx="201992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for Hybrid and Embedded Softwar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7"/>
          <p:cNvSpPr/>
          <p:nvPr/>
        </p:nvSpPr>
        <p:spPr>
          <a:xfrm>
            <a:off x="13295160" y="22210560"/>
            <a:ext cx="21539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maining challenges includ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llowing the user to edit the product lattice, especially Top and Bottom concep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ome concepts in the product lattice don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 make sense.  Allow users to note these with acceptance criteri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bining finite and infinite width latti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bining inherited and new rules and ensuring monotonic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Lattice Composition for Ontology Analysis</a:t>
            </a:r>
            <a:endParaRPr b="1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009600" y="164880"/>
            <a:ext cx="493092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zabeth Latronic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les Shelton (Bo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 Lickly, Edward Lee (Berkel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1" descr="125-Bosch_Email-Signature_neutral"/>
          <p:cNvPicPr/>
          <p:nvPr/>
        </p:nvPicPr>
        <p:blipFill>
          <a:blip r:embed="rId3"/>
          <a:stretch/>
        </p:blipFill>
        <p:spPr>
          <a:xfrm>
            <a:off x="32821560" y="2906640"/>
            <a:ext cx="2432160" cy="1025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8"/>
          <p:cNvSpPr/>
          <p:nvPr/>
        </p:nvSpPr>
        <p:spPr>
          <a:xfrm>
            <a:off x="24618960" y="3483000"/>
            <a:ext cx="942336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rn more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y the </a:t>
            </a:r>
            <a:r>
              <a:rPr b="1" lang="en-US" sz="3200" spc="-1" strike="noStrike">
                <a:solidFill>
                  <a:srgbClr val="0066ff"/>
                </a:solidFill>
                <a:latin typeface="Book Antiqua"/>
              </a:rPr>
              <a:t>ptolemy.data.ontolog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acka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ublication: 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calable Semantic Annotation u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attice-based Ontologies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MODELS 200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8"/>
          <p:cNvSpPr/>
          <p:nvPr/>
        </p:nvSpPr>
        <p:spPr>
          <a:xfrm>
            <a:off x="29808360" y="10004400"/>
            <a:ext cx="475164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utput of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ltiplication by zer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s zero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8"/>
          <p:cNvSpPr/>
          <p:nvPr/>
        </p:nvSpPr>
        <p:spPr>
          <a:xfrm>
            <a:off x="7450200" y="10912320"/>
            <a:ext cx="377028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Const actor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put is const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8"/>
          <p:cNvSpPr/>
          <p:nvPr/>
        </p:nvSpPr>
        <p:spPr>
          <a:xfrm>
            <a:off x="4408560" y="9769320"/>
            <a:ext cx="475128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utput of a Ramp actor can chan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8"/>
          <p:cNvSpPr/>
          <p:nvPr/>
        </p:nvSpPr>
        <p:spPr>
          <a:xfrm>
            <a:off x="16490880" y="9299520"/>
            <a:ext cx="47512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input to a Display actor is observa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8"/>
          <p:cNvSpPr/>
          <p:nvPr/>
        </p:nvSpPr>
        <p:spPr>
          <a:xfrm>
            <a:off x="11315880" y="10848960"/>
            <a:ext cx="54702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Discard actor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 inpu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n not be observed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8"/>
          <p:cNvSpPr/>
          <p:nvPr/>
        </p:nvSpPr>
        <p:spPr>
          <a:xfrm>
            <a:off x="19729440" y="14439960"/>
            <a:ext cx="151448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Product Lattic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1" descr=""/>
          <p:cNvPicPr/>
          <p:nvPr/>
        </p:nvPicPr>
        <p:blipFill>
          <a:blip r:embed="rId4"/>
          <a:stretch/>
        </p:blipFill>
        <p:spPr>
          <a:xfrm>
            <a:off x="1252440" y="8396280"/>
            <a:ext cx="3381480" cy="2467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4" descr=""/>
          <p:cNvPicPr/>
          <p:nvPr/>
        </p:nvPicPr>
        <p:blipFill>
          <a:blip r:embed="rId5"/>
          <a:stretch/>
        </p:blipFill>
        <p:spPr>
          <a:xfrm>
            <a:off x="4433760" y="10901520"/>
            <a:ext cx="2847960" cy="1000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5" descr=""/>
          <p:cNvPicPr/>
          <p:nvPr/>
        </p:nvPicPr>
        <p:blipFill>
          <a:blip r:embed="rId6"/>
          <a:stretch/>
        </p:blipFill>
        <p:spPr>
          <a:xfrm>
            <a:off x="4824360" y="8082000"/>
            <a:ext cx="4753080" cy="1724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7" descr=""/>
          <p:cNvPicPr/>
          <p:nvPr/>
        </p:nvPicPr>
        <p:blipFill>
          <a:blip r:embed="rId7"/>
          <a:stretch/>
        </p:blipFill>
        <p:spPr>
          <a:xfrm>
            <a:off x="12310920" y="8234280"/>
            <a:ext cx="3667320" cy="244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8" descr=""/>
          <p:cNvPicPr/>
          <p:nvPr/>
        </p:nvPicPr>
        <p:blipFill>
          <a:blip r:embed="rId8"/>
          <a:stretch/>
        </p:blipFill>
        <p:spPr>
          <a:xfrm>
            <a:off x="22618800" y="8196120"/>
            <a:ext cx="6999120" cy="3667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1" descr=""/>
          <p:cNvPicPr/>
          <p:nvPr/>
        </p:nvPicPr>
        <p:blipFill>
          <a:blip r:embed="rId9"/>
          <a:stretch/>
        </p:blipFill>
        <p:spPr>
          <a:xfrm>
            <a:off x="16997400" y="10458360"/>
            <a:ext cx="423864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3" descr=""/>
          <p:cNvPicPr/>
          <p:nvPr/>
        </p:nvPicPr>
        <p:blipFill>
          <a:blip r:embed="rId10"/>
          <a:stretch/>
        </p:blipFill>
        <p:spPr>
          <a:xfrm>
            <a:off x="30584880" y="8172360"/>
            <a:ext cx="3181320" cy="1714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5" descr=""/>
          <p:cNvPicPr/>
          <p:nvPr/>
        </p:nvPicPr>
        <p:blipFill>
          <a:blip r:embed="rId11"/>
          <a:stretch/>
        </p:blipFill>
        <p:spPr>
          <a:xfrm>
            <a:off x="7850160" y="17864280"/>
            <a:ext cx="10752120" cy="1276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8"/>
          <p:cNvSpPr/>
          <p:nvPr/>
        </p:nvSpPr>
        <p:spPr>
          <a:xfrm>
            <a:off x="1679400" y="20302560"/>
            <a:ext cx="10814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input to a multiply be zero operation is unobserva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8"/>
          <p:cNvSpPr/>
          <p:nvPr/>
        </p:nvSpPr>
        <p:spPr>
          <a:xfrm>
            <a:off x="13685760" y="19118160"/>
            <a:ext cx="5270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utput of a multipl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y zero is const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7" descr=""/>
          <p:cNvPicPr/>
          <p:nvPr/>
        </p:nvPicPr>
        <p:blipFill>
          <a:blip r:embed="rId12"/>
          <a:stretch/>
        </p:blipFill>
        <p:spPr>
          <a:xfrm>
            <a:off x="1725480" y="18900720"/>
            <a:ext cx="107712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7:45:11Z</dcterms:created>
  <dc:creator>cxh</dc:creator>
  <dc:description/>
  <dc:language>en-US</dc:language>
  <cp:lastModifiedBy>Ben</cp:lastModifiedBy>
  <cp:lastPrinted>2010-02-04T19:34:07Z</cp:lastPrinted>
  <dcterms:modified xsi:type="dcterms:W3CDTF">2011-01-24T22:14:16Z</dcterms:modified>
  <cp:revision>131</cp:revision>
  <dc:subject/>
  <dc:title>Slide 1</dc:title>
</cp:coreProperties>
</file>