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77BE-8641-4C13-8F89-88CF2CCDE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993C-C8CB-45E6-A05D-DA40D4D87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DEC1-E4C6-41CD-94E0-A549E3D5B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CBFF-62CB-4379-BACD-D2E67D12F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BDE9-0BA6-4CDC-B001-0EE9946713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117C-EE22-43DA-BDAA-FE233BA007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9926-067B-4019-98AF-9819118B5C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1713-1FFB-4673-8153-1DC8F48056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338E-373A-45A6-B2D1-26CC23FB2F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8F64-6EAE-46F1-B849-9144829652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CCD0-9493-4E84-8593-99F9ED35A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08A8-EC00-4BB8-8FED-38B805DC7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9E41-31A0-4DE0-8615-BC8C6EA290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ED66-1357-4BA3-B530-A65443ED6F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362A-23D8-493C-B864-E18FBF724A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19B0-AA0E-4540-BA00-9EB008974C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752C-5C33-4515-A407-599192BA03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C33-FD66-4DDF-8F76-41CF7A8EF3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FCB-E1FB-4E15-BC99-5A5B80D0C9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563-0A87-47AC-A0D1-2598EB0E2B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F30-0878-4E66-954E-2F5BAFDB2B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2C3-A942-4256-8980-457879C30E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8860-CFB1-4146-8F19-6AB7A9F6F9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EEB-D42A-4C14-A1B4-691E21E31A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64C-57D3-4C47-A32E-2878749E9D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B74-9E02-4613-857B-8CB1DE035C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CC7-D95A-4E73-AE43-3AFA97659A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3C5-1293-4987-B6BA-19A3AC3F3D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A2C-A153-421A-967E-53E9A498FC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627-CDDA-4B85-BB01-7509C9025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3B9B-F788-4FA8-8CB0-CCA0FBC9F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42ED-6168-44A6-8B51-BDE673791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33BD-EF29-4BBD-932C-61A5DEAD2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1D71-0756-4EBC-8A71-7F4611609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EEE6-405C-48B4-8C74-04AE35052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F7E7-05A9-4958-8915-4AC8275D1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34E-E9AB-4163-8B3A-B36BC27D7E36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5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E08D-1AC1-464D-AC0A-65C4BA1FB148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3" name="Picture 11" descr="PPTFootCol.PNG"/>
          <p:cNvPicPr/>
          <p:nvPr/>
        </p:nvPicPr>
        <p:blipFill>
          <a:blip r:embed="rId4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OCOL.png"/>
          <p:cNvPicPr/>
          <p:nvPr/>
        </p:nvPicPr>
        <p:blipFill>
          <a:blip r:embed="rId5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EDB-91BA-492A-A530-629B5BD09BE4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38080" y="5931000"/>
            <a:ext cx="5537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07070"/>
                </a:solidFill>
                <a:latin typeface="Bosch Office Sans"/>
              </a:rPr>
              <a:t>Elizabeth Latronico, Charles Shelton (Bosch), Ben Lickly, Edward Lee (Berkeley) | 2/9/2011 | © 2011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Lattice Composition for Ontology Analysis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9" name="Picture 8" descr="JUBILAEUM.png"/>
          <p:cNvPicPr/>
          <p:nvPr/>
        </p:nvPicPr>
        <p:blipFill>
          <a:blip r:embed="rId1"/>
          <a:stretch/>
        </p:blipFill>
        <p:spPr>
          <a:xfrm>
            <a:off x="76320" y="5622840"/>
            <a:ext cx="682560" cy="28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477120" y="191160"/>
            <a:ext cx="182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sch Office San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38080" y="5638680"/>
            <a:ext cx="5537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08960" y="6019920"/>
            <a:ext cx="255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3" name="TextBox 4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76320" y="5851440"/>
            <a:ext cx="380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C49-98B8-4FE8-8418-D557984BFA5E}" type="slidenum">
              <a:rPr b="0" lang="en-US" sz="1500" spc="-1" strike="noStrike">
                <a:solidFill>
                  <a:srgbClr val="707070"/>
                </a:solidFill>
                <a:latin typeface="Bosch Office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638280"/>
            <a:ext cx="73152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2000"/>
          </a:bodyPr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upport multiple develop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le maintaining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eparation of concerns?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tice composition to the rescue!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 cross-product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individual 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herit most rules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sub-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a few rules for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ed ontology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14720" y="1141560"/>
            <a:ext cx="5842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738360" y="1141560"/>
            <a:ext cx="61092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8" descr=""/>
          <p:cNvPicPr/>
          <p:nvPr/>
        </p:nvPicPr>
        <p:blipFill>
          <a:blip r:embed="rId4"/>
          <a:stretch/>
        </p:blipFill>
        <p:spPr>
          <a:xfrm>
            <a:off x="379440" y="2006640"/>
            <a:ext cx="1398600" cy="733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1387440" y="106992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invented th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analysis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my problem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835440" y="1069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d like to combine Ben’s ontology with another for better analysis.  I’ll just  create one big ontology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6931080" y="114156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6138720" y="186228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 no!  I have to rewrit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of my rules to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g ontology.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never graduate &lt;sigh&gt;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3" name="Picture 133" descr=""/>
          <p:cNvPicPr/>
          <p:nvPr/>
        </p:nvPicPr>
        <p:blipFill>
          <a:blip r:embed="rId6"/>
          <a:stretch/>
        </p:blipFill>
        <p:spPr>
          <a:xfrm>
            <a:off x="2179800" y="2006640"/>
            <a:ext cx="634680" cy="34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5"/>
          <p:cNvSpPr/>
          <p:nvPr/>
        </p:nvSpPr>
        <p:spPr>
          <a:xfrm>
            <a:off x="1530360" y="2365200"/>
            <a:ext cx="1728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output of a 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ultiplication by zero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s zero.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5" name="Picture 143" descr=""/>
          <p:cNvPicPr/>
          <p:nvPr/>
        </p:nvPicPr>
        <p:blipFill>
          <a:blip r:embed="rId7"/>
          <a:stretch/>
        </p:blipFill>
        <p:spPr>
          <a:xfrm>
            <a:off x="3546360" y="2077920"/>
            <a:ext cx="228600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8" descr=""/>
          <p:cNvPicPr/>
          <p:nvPr/>
        </p:nvPicPr>
        <p:blipFill>
          <a:blip r:embed="rId8"/>
          <a:stretch/>
        </p:blipFill>
        <p:spPr>
          <a:xfrm>
            <a:off x="3187800" y="3591000"/>
            <a:ext cx="1260360" cy="65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1" descr=""/>
          <p:cNvPicPr/>
          <p:nvPr/>
        </p:nvPicPr>
        <p:blipFill>
          <a:blip r:embed="rId9"/>
          <a:stretch/>
        </p:blipFill>
        <p:spPr>
          <a:xfrm>
            <a:off x="4627440" y="3733920"/>
            <a:ext cx="608040" cy="44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10"/>
          <a:stretch/>
        </p:blipFill>
        <p:spPr>
          <a:xfrm>
            <a:off x="3259080" y="4525920"/>
            <a:ext cx="611280" cy="62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11"/>
          <a:stretch/>
        </p:blipFill>
        <p:spPr>
          <a:xfrm>
            <a:off x="5780160" y="4525920"/>
            <a:ext cx="582480" cy="6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7" descr=""/>
          <p:cNvPicPr/>
          <p:nvPr/>
        </p:nvPicPr>
        <p:blipFill>
          <a:blip r:embed="rId12"/>
          <a:stretch/>
        </p:blipFill>
        <p:spPr>
          <a:xfrm>
            <a:off x="5346720" y="3733920"/>
            <a:ext cx="66024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4"/>
          <p:cNvSpPr/>
          <p:nvPr/>
        </p:nvSpPr>
        <p:spPr>
          <a:xfrm>
            <a:off x="441180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13072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592308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4" name="Picture 143" descr=""/>
          <p:cNvPicPr/>
          <p:nvPr/>
        </p:nvPicPr>
        <p:blipFill>
          <a:blip r:embed="rId13"/>
          <a:stretch/>
        </p:blipFill>
        <p:spPr>
          <a:xfrm>
            <a:off x="6283440" y="3591000"/>
            <a:ext cx="2057400" cy="758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3906720" y="452592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!  M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unmodified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427800" y="45259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eat!  Auto-composition and inheriting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s me a lot of time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50Z</dcterms:created>
  <dc:creator/>
  <dc:description/>
  <dc:language>en-US</dc:language>
  <cp:lastModifiedBy>loe1pit</cp:lastModifiedBy>
  <dcterms:modified xsi:type="dcterms:W3CDTF">2011-02-10T17:16:40Z</dcterms:modified>
  <cp:revision>11</cp:revision>
  <dc:subject/>
  <dc:title>Default</dc:title>
</cp:coreProperties>
</file>