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51C72-B0DE-46CE-A456-7E02E7C8B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368A3-74A2-48DB-B05E-E8FCF6D0A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55E32-EEB6-4133-8A5B-E743BCDDB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78C20-67C9-4873-AB87-AC3D3AE2C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1AB2A-E490-460B-8A2D-98CDBB819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1FF54-D9D9-431A-AC78-71CEAACB8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DC724-9B73-487B-921A-F73F67EA3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5D9AB-51D3-4179-8A6F-012836525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C2A3A-2778-4532-A9C2-39B4FEED0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5D145-B2E1-4443-AA67-201D060F8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957D7-7016-4281-BE4A-4891938A0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79C16-C7C7-4E36-A836-46D7A92EB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34A7B-6551-4F11-BE37-9FB42D7DBD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7920" y="1905120"/>
            <a:ext cx="196560" cy="164880"/>
          </a:xfrm>
          <a:prstGeom prst="rightArrow">
            <a:avLst>
              <a:gd name="adj1" fmla="val 56250"/>
              <a:gd name="adj2" fmla="val 69541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3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719440" y="1914480"/>
            <a:ext cx="174600" cy="174600"/>
          </a:xfrm>
          <a:prstGeom prst="ellipse">
            <a:avLst/>
          </a:prstGeom>
          <a:solidFill>
            <a:srgbClr val="7287b4"/>
          </a:solidFill>
          <a:ln w="9360">
            <a:solidFill>
              <a:srgbClr val="7287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3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47920" y="2209680"/>
            <a:ext cx="172800" cy="146160"/>
          </a:xfrm>
          <a:prstGeom prst="rightArrow">
            <a:avLst>
              <a:gd name="adj1" fmla="val 64583"/>
              <a:gd name="adj2" fmla="val 64039"/>
            </a:avLst>
          </a:prstGeom>
          <a:solidFill>
            <a:srgbClr val="e3e7ec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3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8080" y="1905120"/>
            <a:ext cx="174600" cy="174600"/>
          </a:xfrm>
          <a:prstGeom prst="ellipse">
            <a:avLst/>
          </a:prstGeom>
          <a:solidFill>
            <a:srgbClr val="7287b4"/>
          </a:solidFill>
          <a:ln w="9360">
            <a:solidFill>
              <a:srgbClr val="7287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3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3088080" y="1784520"/>
            <a:ext cx="326160" cy="398520"/>
            <a:chOff x="3088080" y="1784520"/>
            <a:chExt cx="326160" cy="398520"/>
          </a:xfrm>
        </p:grpSpPr>
        <p:sp>
          <p:nvSpPr>
            <p:cNvPr id="46" name=""/>
            <p:cNvSpPr/>
            <p:nvPr/>
          </p:nvSpPr>
          <p:spPr>
            <a:xfrm>
              <a:off x="3102480" y="178452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alligraphy"/>
                </a:rPr>
                <a:t>~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088080" y="181476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alligraphy"/>
                </a:rPr>
                <a:t>~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"/>
          <p:cNvSpPr/>
          <p:nvPr/>
        </p:nvSpPr>
        <p:spPr>
          <a:xfrm>
            <a:off x="1905120" y="2209680"/>
            <a:ext cx="172800" cy="146160"/>
          </a:xfrm>
          <a:prstGeom prst="rightArrow">
            <a:avLst>
              <a:gd name="adj1" fmla="val 64583"/>
              <a:gd name="adj2" fmla="val 64039"/>
            </a:avLst>
          </a:prstGeom>
          <a:solidFill>
            <a:srgbClr val="b7fd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3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86000" y="2209680"/>
            <a:ext cx="173160" cy="146160"/>
          </a:xfrm>
          <a:prstGeom prst="rightArrow">
            <a:avLst>
              <a:gd name="adj1" fmla="val 64583"/>
              <a:gd name="adj2" fmla="val 64172"/>
            </a:avLst>
          </a:prstGeom>
          <a:solidFill>
            <a:srgbClr val="ffe38a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3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0T21:40:42Z</dcterms:created>
  <dc:creator>Shawn Bowers</dc:creator>
  <dc:description/>
  <dc:language>en-US</dc:language>
  <cp:lastModifiedBy>Shawn Bowers</cp:lastModifiedBy>
  <dcterms:modified xsi:type="dcterms:W3CDTF">2006-05-22T17:52:40Z</dcterms:modified>
  <cp:revision>22</cp:revision>
  <dc:subject/>
  <dc:title>PowerPoint Presentation</dc:title>
</cp:coreProperties>
</file>