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8535988" cy="6173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3A8A-182C-4FEE-914E-D61109834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252B-7FC2-4AB5-9F78-6D5FE97D6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3678-8BD9-4FA5-876F-5DA93AAAA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8914-593E-495D-9D92-C06876F86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1F9BA-9278-4E16-BDD4-22238B0D4A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E0AFF-E35E-4CD7-952E-E0FEED1776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4135-3F4A-4E2C-AB97-135A7F0FE8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5BBEE-AA71-4BC5-913F-923B1A32ED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BBFF-23F7-4FD9-A755-09C60CDFB4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ABB5F-B68B-4DD2-B6B9-505F611CDD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2C84F-82AB-4485-974D-F21354E8EA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9ADD-E935-4A7B-B010-886438684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56D90-B3A7-406F-9AC2-C8214FF335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EAFF1-5011-4722-9ECE-9A8FD3F9EE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DBC21-4CA1-4556-B00F-4D27A5944A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A74E1-2A53-452A-B217-472AA8C236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CC152-8D3E-4973-AAE5-325F385C4A8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8929-0060-4AAA-A725-73242CA051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4504-9071-4BCE-BF84-090E7D04DE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90E-6A43-4509-9BEB-D940ABA220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3ED-AAFA-4546-AB8D-7B88B7B6F4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C326-828D-4B7B-8FBB-1F220A2220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24AB-E3B8-4673-8573-AAD8767FDE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660-24B8-4CBE-BE86-BE5D86A3C9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6F2-7D0D-43E0-B943-18389C5B82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089-03CC-45F4-BE77-20B9166155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355-F681-4F57-B855-ECB8E52308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3E52-3D70-40CC-983D-0F4D74B50A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723-5541-4AAB-ABEE-B5333CA927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F421-23CF-449B-A768-B48701586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6AB0-0465-40B5-8642-B26A3FBFE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3218-0A08-43C3-B1A2-51A70748E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A5BF-EF9E-4FB8-95E2-B8DA5378D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444E-E5AD-4DBB-A2A2-9F75A7FC9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5AE0-BFE3-4C5B-8992-BB708D057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6E761-19F5-4360-B69D-201D2A567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AB34-2556-434C-B3AB-61339B8F820D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45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47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62FF-E20E-44DD-B639-28523613FBDD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89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91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93" name="Picture 11" descr="PPTFootCol.PNG"/>
          <p:cNvPicPr/>
          <p:nvPr/>
        </p:nvPicPr>
        <p:blipFill>
          <a:blip r:embed="rId4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BOCOL.png"/>
          <p:cNvPicPr/>
          <p:nvPr/>
        </p:nvPicPr>
        <p:blipFill>
          <a:blip r:embed="rId5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6" name="Straight Connector 14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7" name="Straight Connector 15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E40B-AA1C-4C0E-BADB-A0A30867F8C7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5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838080" y="5931000"/>
            <a:ext cx="5537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700" spc="-1" strike="noStrike">
                <a:solidFill>
                  <a:srgbClr val="707070"/>
                </a:solidFill>
                <a:latin typeface="Bosch Office Sans"/>
              </a:rPr>
              <a:t>Elizabeth Latronico, Charles Shelton (Bosch), Ben Lickly, Edward Lee (Berkeley) | 2/9/2011 | © 2011 Robert Bosch LLC and affiliates. All rights reserved.</a:t>
            </a:r>
            <a:endParaRPr b="0" lang="en-US" sz="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Lattice Composition for Ontology Analysis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39" name="Picture 8" descr="JUBILAEUM.png"/>
          <p:cNvPicPr/>
          <p:nvPr/>
        </p:nvPicPr>
        <p:blipFill>
          <a:blip r:embed="rId1"/>
          <a:stretch/>
        </p:blipFill>
        <p:spPr>
          <a:xfrm>
            <a:off x="76320" y="5622840"/>
            <a:ext cx="682560" cy="289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6477120" y="191160"/>
            <a:ext cx="1828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sch Office Sans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838080" y="5638680"/>
            <a:ext cx="55371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8508960" y="6019920"/>
            <a:ext cx="255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3" name="TextBox 4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4" name="Slide Number Placeholder 11"/>
          <p:cNvSpPr/>
          <p:nvPr/>
        </p:nvSpPr>
        <p:spPr>
          <a:xfrm>
            <a:off x="76320" y="5851440"/>
            <a:ext cx="3808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3D5F-87F0-4250-AB14-DC8E9A7340BB}" type="slidenum">
              <a:rPr b="0" lang="en-US" sz="1500" spc="-1" strike="noStrike">
                <a:solidFill>
                  <a:srgbClr val="707070"/>
                </a:solidFill>
                <a:latin typeface="Bosch Office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638280"/>
            <a:ext cx="73152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 fontScale="92000"/>
          </a:bodyPr>
          <a:p>
            <a:pPr marL="280440" indent="-28044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to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support multiple developer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le maintaining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separation of concerns?</a:t>
            </a: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-28044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ttice composition to the rescue!</a:t>
            </a: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ute cross-product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individual ontologies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herit most rules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om sub-ontologies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 a few rules for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sed ontology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114720" y="1141560"/>
            <a:ext cx="584280" cy="61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3"/>
          <a:stretch/>
        </p:blipFill>
        <p:spPr>
          <a:xfrm>
            <a:off x="738360" y="1141560"/>
            <a:ext cx="610920" cy="623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8" descr=""/>
          <p:cNvPicPr/>
          <p:nvPr/>
        </p:nvPicPr>
        <p:blipFill>
          <a:blip r:embed="rId4"/>
          <a:stretch/>
        </p:blipFill>
        <p:spPr>
          <a:xfrm>
            <a:off x="379440" y="2006640"/>
            <a:ext cx="1398600" cy="733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7"/>
          <p:cNvSpPr/>
          <p:nvPr/>
        </p:nvSpPr>
        <p:spPr>
          <a:xfrm>
            <a:off x="1387440" y="1069920"/>
            <a:ext cx="215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invented the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ect ontolog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analysis rules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my problem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50" name="TextBox 18"/>
          <p:cNvSpPr/>
          <p:nvPr/>
        </p:nvSpPr>
        <p:spPr>
          <a:xfrm>
            <a:off x="3835440" y="106992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d like to combine Ben’s ontology with another for better analysis.  I’ll just  create one big ontology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5"/>
          <a:stretch/>
        </p:blipFill>
        <p:spPr>
          <a:xfrm>
            <a:off x="6931080" y="1141560"/>
            <a:ext cx="611280" cy="6220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1"/>
          <p:cNvSpPr/>
          <p:nvPr/>
        </p:nvSpPr>
        <p:spPr>
          <a:xfrm>
            <a:off x="6138720" y="186228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h no!  I have to rewrite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of my rules to u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big ontology.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ll never graduate &lt;sigh&gt;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3" name="Picture 133" descr=""/>
          <p:cNvPicPr/>
          <p:nvPr/>
        </p:nvPicPr>
        <p:blipFill>
          <a:blip r:embed="rId6"/>
          <a:stretch/>
        </p:blipFill>
        <p:spPr>
          <a:xfrm>
            <a:off x="2179800" y="2006640"/>
            <a:ext cx="634680" cy="3427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5"/>
          <p:cNvSpPr/>
          <p:nvPr/>
        </p:nvSpPr>
        <p:spPr>
          <a:xfrm>
            <a:off x="1530360" y="2365200"/>
            <a:ext cx="1728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output of a 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ultiplication by zero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s zero.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5" name="Picture 143" descr=""/>
          <p:cNvPicPr/>
          <p:nvPr/>
        </p:nvPicPr>
        <p:blipFill>
          <a:blip r:embed="rId7"/>
          <a:stretch/>
        </p:blipFill>
        <p:spPr>
          <a:xfrm>
            <a:off x="3546360" y="2077920"/>
            <a:ext cx="2286000" cy="843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8" descr=""/>
          <p:cNvPicPr/>
          <p:nvPr/>
        </p:nvPicPr>
        <p:blipFill>
          <a:blip r:embed="rId8"/>
          <a:stretch/>
        </p:blipFill>
        <p:spPr>
          <a:xfrm>
            <a:off x="3187800" y="3591000"/>
            <a:ext cx="1260360" cy="657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1" descr=""/>
          <p:cNvPicPr/>
          <p:nvPr/>
        </p:nvPicPr>
        <p:blipFill>
          <a:blip r:embed="rId9"/>
          <a:stretch/>
        </p:blipFill>
        <p:spPr>
          <a:xfrm>
            <a:off x="4627440" y="3733920"/>
            <a:ext cx="608040" cy="44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10"/>
          <a:stretch/>
        </p:blipFill>
        <p:spPr>
          <a:xfrm>
            <a:off x="3259080" y="4525920"/>
            <a:ext cx="611280" cy="623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11"/>
          <a:stretch/>
        </p:blipFill>
        <p:spPr>
          <a:xfrm>
            <a:off x="5780160" y="4525920"/>
            <a:ext cx="582480" cy="617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7" descr=""/>
          <p:cNvPicPr/>
          <p:nvPr/>
        </p:nvPicPr>
        <p:blipFill>
          <a:blip r:embed="rId12"/>
          <a:stretch/>
        </p:blipFill>
        <p:spPr>
          <a:xfrm>
            <a:off x="5346720" y="3733920"/>
            <a:ext cx="660240" cy="4413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4"/>
          <p:cNvSpPr/>
          <p:nvPr/>
        </p:nvSpPr>
        <p:spPr>
          <a:xfrm>
            <a:off x="441180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2" name="TextBox 35"/>
          <p:cNvSpPr/>
          <p:nvPr/>
        </p:nvSpPr>
        <p:spPr>
          <a:xfrm>
            <a:off x="513072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3" name="TextBox 36"/>
          <p:cNvSpPr/>
          <p:nvPr/>
        </p:nvSpPr>
        <p:spPr>
          <a:xfrm>
            <a:off x="592308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64" name="Picture 143" descr=""/>
          <p:cNvPicPr/>
          <p:nvPr/>
        </p:nvPicPr>
        <p:blipFill>
          <a:blip r:embed="rId13"/>
          <a:stretch/>
        </p:blipFill>
        <p:spPr>
          <a:xfrm>
            <a:off x="6283440" y="3591000"/>
            <a:ext cx="2057400" cy="7588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8"/>
          <p:cNvSpPr/>
          <p:nvPr/>
        </p:nvSpPr>
        <p:spPr>
          <a:xfrm>
            <a:off x="3906720" y="4525920"/>
            <a:ext cx="13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ect!  M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iginal ontolog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unmodified.”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6" name="TextBox 39"/>
          <p:cNvSpPr/>
          <p:nvPr/>
        </p:nvSpPr>
        <p:spPr>
          <a:xfrm>
            <a:off x="6427800" y="4525920"/>
            <a:ext cx="192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eat!  Auto-composition and inheriting rules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ves me a lot of time.”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5:22:50Z</dcterms:created>
  <dc:creator/>
  <dc:description/>
  <dc:language>en-US</dc:language>
  <cp:lastModifiedBy>loe1pit</cp:lastModifiedBy>
  <dcterms:modified xsi:type="dcterms:W3CDTF">2011-02-10T17:16:40Z</dcterms:modified>
  <cp:revision>11</cp:revision>
  <dc:subject/>
  <dc:title>Default</dc:title>
</cp:coreProperties>
</file>