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8535988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FD62-4024-43BF-A2E9-22B343C71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DFCD-3904-4749-ABD0-C6D4B021C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BC3E-9B2D-47DC-962C-5FA64B1E4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3BEA-8C94-45F1-BB61-B6D902C1C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4807-7451-4431-8667-39A5B28961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393D2-2B3D-4F9D-9E19-A5A6484A14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5BE5-7BAB-4D29-B6B4-5A1A993B32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4174B-2646-4ADA-B0FA-B02A9EE1FB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A903-16A7-4645-9C00-B8ED4D767E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FE95-9049-4086-B0A0-0568B37C14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8E93-DB3F-4976-9D4D-B784F41E8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04B4-FDC7-40D4-A59E-00C22BF91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3CB5-D75A-4979-A047-D6B9B0BB4F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B9EE-FD90-44A5-9D46-932537F030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94F6-726B-4775-BE24-867369AC60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5162-9B06-4816-A103-568565BA38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0D76-DABD-4790-8D35-A53CF27EAE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22B-75F9-426B-A57F-09CB795790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2A5-2C6C-401A-93D6-BB42842D57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2BC-AEF7-4CF9-8359-9D4B4395BD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13F-58F6-46F1-B2C9-91501A3336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1F8-EF25-4EFE-AA0F-22171E7DA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9292-705E-4BD2-84F4-BBEF8A6AA3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C3C-63C2-4367-A072-FBC8C32D84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68A-2C85-4BD3-ABB0-D811E6CDA3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9B4-ACFC-4D55-9BDC-430AD2D563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8EC-B726-4E16-B354-684BDB0448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A84-B347-497E-8781-1D4FB795ED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E2E-0B63-40DD-9E44-C92E8C2CDF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20C-FAC5-4D5F-A709-44D009CE4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C76E-29C0-460A-ADAD-15248A13B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654F-5FA2-4755-B63D-BADCB89FA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DB3B-0BAA-4F96-B974-005C850FB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40D4-3C98-4BC9-9A76-136F5960E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3046-4212-468C-B905-A2600B648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17A7-BADF-48F3-8561-2011E9130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A6C3-EEC6-4539-B0B8-C1A20284AF86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45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22CC-E197-4A58-81A3-38EE4FE553BD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89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93" name="Picture 11" descr="PPTFootCol.PNG"/>
          <p:cNvPicPr/>
          <p:nvPr/>
        </p:nvPicPr>
        <p:blipFill>
          <a:blip r:embed="rId4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OCOL.png"/>
          <p:cNvPicPr/>
          <p:nvPr/>
        </p:nvPicPr>
        <p:blipFill>
          <a:blip r:embed="rId5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506C-BD55-426A-B65C-39C8F75FAC40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38080" y="5931000"/>
            <a:ext cx="5537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707070"/>
                </a:solidFill>
                <a:latin typeface="Bosch Office Sans"/>
              </a:rPr>
              <a:t>Elizabeth Latronico, Charles Shelton (Bosch), Ben Lickly, Edward Lee (Berkeley) | 2/9/2011 | © 2011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Lattice Composition for Ontology Analysis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39" name="Picture 8" descr="JUBILAEUM.png"/>
          <p:cNvPicPr/>
          <p:nvPr/>
        </p:nvPicPr>
        <p:blipFill>
          <a:blip r:embed="rId1"/>
          <a:stretch/>
        </p:blipFill>
        <p:spPr>
          <a:xfrm>
            <a:off x="76320" y="5622840"/>
            <a:ext cx="682560" cy="28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477120" y="191160"/>
            <a:ext cx="1828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sch Office San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38080" y="5638680"/>
            <a:ext cx="55371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08960" y="6019920"/>
            <a:ext cx="255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3" name="TextBox 4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76320" y="5851440"/>
            <a:ext cx="380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A17F-84C4-4486-9F14-12717B565DC2}" type="slidenum">
              <a:rPr b="0" lang="en-US" sz="1500" spc="-1" strike="noStrike">
                <a:solidFill>
                  <a:srgbClr val="707070"/>
                </a:solidFill>
                <a:latin typeface="Bosch Office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638280"/>
            <a:ext cx="73152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92000"/>
          </a:bodyPr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upport multiple develop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le maintaining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eparation of concerns?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tice composition to the rescue!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 cross-product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individual 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herit most rules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sub-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a few rules for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ed ontology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114720" y="1141560"/>
            <a:ext cx="5842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738360" y="1141560"/>
            <a:ext cx="61092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8" descr=""/>
          <p:cNvPicPr/>
          <p:nvPr/>
        </p:nvPicPr>
        <p:blipFill>
          <a:blip r:embed="rId4"/>
          <a:stretch/>
        </p:blipFill>
        <p:spPr>
          <a:xfrm>
            <a:off x="379440" y="2006640"/>
            <a:ext cx="1398600" cy="733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7"/>
          <p:cNvSpPr/>
          <p:nvPr/>
        </p:nvSpPr>
        <p:spPr>
          <a:xfrm>
            <a:off x="1387440" y="106992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invented th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analysis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my problem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3835440" y="1069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d like to combine Ben’s ontology with another for better analysis.  I’ll just  create one big ontology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6931080" y="1141560"/>
            <a:ext cx="611280" cy="622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6138720" y="186228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h no!  I have to rewrit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of my rules to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g ontology.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never graduate &lt;sigh&gt;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3" name="Picture 133" descr=""/>
          <p:cNvPicPr/>
          <p:nvPr/>
        </p:nvPicPr>
        <p:blipFill>
          <a:blip r:embed="rId6"/>
          <a:stretch/>
        </p:blipFill>
        <p:spPr>
          <a:xfrm>
            <a:off x="2179800" y="2006640"/>
            <a:ext cx="634680" cy="34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5"/>
          <p:cNvSpPr/>
          <p:nvPr/>
        </p:nvSpPr>
        <p:spPr>
          <a:xfrm>
            <a:off x="1530360" y="2365200"/>
            <a:ext cx="1728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output of a 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ultiplication by zero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s zero.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5" name="Picture 143" descr=""/>
          <p:cNvPicPr/>
          <p:nvPr/>
        </p:nvPicPr>
        <p:blipFill>
          <a:blip r:embed="rId7"/>
          <a:stretch/>
        </p:blipFill>
        <p:spPr>
          <a:xfrm>
            <a:off x="3546360" y="2077920"/>
            <a:ext cx="228600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8" descr=""/>
          <p:cNvPicPr/>
          <p:nvPr/>
        </p:nvPicPr>
        <p:blipFill>
          <a:blip r:embed="rId8"/>
          <a:stretch/>
        </p:blipFill>
        <p:spPr>
          <a:xfrm>
            <a:off x="3187800" y="3591000"/>
            <a:ext cx="1260360" cy="65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1" descr=""/>
          <p:cNvPicPr/>
          <p:nvPr/>
        </p:nvPicPr>
        <p:blipFill>
          <a:blip r:embed="rId9"/>
          <a:stretch/>
        </p:blipFill>
        <p:spPr>
          <a:xfrm>
            <a:off x="4627440" y="3733920"/>
            <a:ext cx="608040" cy="44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10"/>
          <a:stretch/>
        </p:blipFill>
        <p:spPr>
          <a:xfrm>
            <a:off x="3259080" y="4525920"/>
            <a:ext cx="611280" cy="62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11"/>
          <a:stretch/>
        </p:blipFill>
        <p:spPr>
          <a:xfrm>
            <a:off x="5780160" y="4525920"/>
            <a:ext cx="582480" cy="6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7" descr=""/>
          <p:cNvPicPr/>
          <p:nvPr/>
        </p:nvPicPr>
        <p:blipFill>
          <a:blip r:embed="rId12"/>
          <a:stretch/>
        </p:blipFill>
        <p:spPr>
          <a:xfrm>
            <a:off x="5346720" y="3733920"/>
            <a:ext cx="660240" cy="441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4"/>
          <p:cNvSpPr/>
          <p:nvPr/>
        </p:nvSpPr>
        <p:spPr>
          <a:xfrm>
            <a:off x="441180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513072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592308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4" name="Picture 143" descr=""/>
          <p:cNvPicPr/>
          <p:nvPr/>
        </p:nvPicPr>
        <p:blipFill>
          <a:blip r:embed="rId13"/>
          <a:stretch/>
        </p:blipFill>
        <p:spPr>
          <a:xfrm>
            <a:off x="6283440" y="3591000"/>
            <a:ext cx="2057400" cy="758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3906720" y="452592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!  M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iginal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unmodified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427800" y="45259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eat!  Auto-composition and inheriting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s me a lot of time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50Z</dcterms:created>
  <dc:creator/>
  <dc:description/>
  <dc:language>en-US</dc:language>
  <cp:lastModifiedBy>loe1pit</cp:lastModifiedBy>
  <dcterms:modified xsi:type="dcterms:W3CDTF">2011-02-10T17:16:40Z</dcterms:modified>
  <cp:revision>11</cp:revision>
  <dc:subject/>
  <dc:title>Default</dc:title>
</cp:coreProperties>
</file>